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wmf" ContentType="image/x-wmf"/>
  <Override PartName="/ppt/media/image16.wmf" ContentType="image/x-wmf"/>
  <Override PartName="/ppt/media/image4.jpeg" ContentType="image/jpeg"/>
  <Override PartName="/ppt/media/image13.gif" ContentType="image/gi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EBE-4945-4FF3-BDB2-51E636A7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177-A457-4240-900E-7E73112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E74-B8D5-4B95-9B9E-EF1D277A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FD5-997A-4C78-8CB7-8BF0846C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C33-3B1F-4080-92EA-C7D22D61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650-93E6-440C-B968-FE341C2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3C41-B2FC-45A9-A397-339649B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CCA-19C5-4970-AF71-DE8AD564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831-EC87-451D-BA5E-A90E500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C268-580D-49DC-8315-E102005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D6FF-1EC4-4A7B-94B1-C59D133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59B-A1D5-477B-80D3-7EEDA28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F2C4-5AAE-4F78-A2BA-46700C1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577A-EBE6-4CC4-8F5D-7D3A930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DC54-FA7B-4AB3-9AED-ED9C683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E7AE-1431-409B-8F12-8E918AD4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7E0-CDDE-4FCD-85B7-A94D23E4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92A-EE4F-48A0-A9A7-BD6CE70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5ED-D7A3-408B-AC9C-AD69E4EF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5AA-AFA1-4539-A81A-918BAED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8F2-518C-4F13-B83C-5878A27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DB1-7AC0-4DED-80A9-48EE618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DD0-7A3C-46F4-8C73-FCAB911C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D13-54EB-41AE-9D91-506CF71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9D7-5E8E-4BF9-8983-661480BC9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1DE0-6E5A-4422-969C-840AE87B29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Рынок труда.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амые востребованные професси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0720" y="15998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огнозы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5880" y="5791320"/>
            <a:ext cx="2743200" cy="7617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р: Воронцова Л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ь иностранных язык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СОШ № 7 г. Усть-К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277560"/>
            <a:ext cx="33526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енеджмент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 обтекаемым словом «менеджер» скрывается масса вакансий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эти специальности требуют среднего специального, а лучше высшего 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Менеджер"/>
          <p:cNvPicPr/>
          <p:nvPr/>
        </p:nvPicPr>
        <p:blipFill>
          <a:blip r:embed="rId1"/>
          <a:stretch/>
        </p:blipFill>
        <p:spPr>
          <a:xfrm>
            <a:off x="4114800" y="320040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4960" y="277920"/>
            <a:ext cx="236196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едицин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ессия врача востребована всегда, только хорошую оплату найти сло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ая доходная медицинская специальность – стоматоло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янно востребованы фармацев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Стоматолог"/>
          <p:cNvPicPr/>
          <p:nvPr/>
        </p:nvPicPr>
        <p:blipFill>
          <a:blip r:embed="rId1"/>
          <a:stretch/>
        </p:blipFill>
        <p:spPr>
          <a:xfrm>
            <a:off x="5791320" y="365760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77920"/>
            <a:ext cx="38102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Банковская сфер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стребованы специалисты банковской сферы: кредитные эксперты, финансовые аналитики и другие специальности, связанные с финансам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Гостиничный персонал"/>
          <p:cNvPicPr/>
          <p:nvPr/>
        </p:nvPicPr>
        <p:blipFill>
          <a:blip r:embed="rId1"/>
          <a:stretch/>
        </p:blipFill>
        <p:spPr>
          <a:xfrm>
            <a:off x="4495680" y="3048120"/>
            <a:ext cx="4267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7240" y="277920"/>
            <a:ext cx="2057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Туриз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ость «Гостиничный сервис и туризм» можно назвать одной из самых перспективных и потому востребованных на сегодняшний день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8335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77920"/>
            <a:ext cx="510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0-самых востребованных 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профессий будущего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первый взгляд, на рынке труда все меняется стремительно и непредсказуемо, но между тем рынок труда - сфера прогнозируем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504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277560"/>
            <a:ext cx="6248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1. Инженерные специальн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прогнозам специалистов на лидирующие позиции выйдут инженерные специальности, связанные с промышленным производств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обенно будет цениться сочетание техничес- кого и экономического или юридического образования, знание английского или любого другого европейского язы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457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2. IT и разработчики компьютерного аппаратного обеспеч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ист - это специалист, создающий и отлаживающий программное обеспечение и поддерживающий его работоспособн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б-дизайнер - одна из самых высокооплачивае- мых «компьютерных» професс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ие компании готовы заплатить немалые деньги, лишь бы на них обратили внимание пользователи Интерн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2320" y="277920"/>
            <a:ext cx="457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Нанотехнолог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нотехнологии - это технологии, основанные на работе с молекулами и атомами, это технологии, использующие наиболее скрытые и ценные свойства ве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нотехнологии - это огромная сфера, которую можно разделить на три части: производство микросхем, роботов в наноразмерах, а также инженерия на атомном уров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нотехнологии охватят все сферы: машиностроение, космические технологии, пищевую промышленность, медицину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277560"/>
            <a:ext cx="647676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4. Специальности на стыке электроники и биотехнологий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отехнологии - технологии, использующие биологические системы и их элемен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отехнологии довольно широко применяются в сельском хозяйстве, где с помощью генной инженерии и методов микробиологии получают генно-модифицированные продукт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отехнологии используются в молекулярной медицине, в биофармацевтических производст- вах и в других отрасл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5. Маркетинг и продаж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етолог - это, прежде всего, стратег компани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о маркетолога - руководить системой, ориен- тированной на производство разнообразных благ и удовлетворение интересов производителей и потреб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проводит исследование рынка, планирует ассортимент и объемы продукции, определяет цены, стимулирует сбы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уществует более 700 профессий, которые рассортированы по группам: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. HR, кадровые службы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 IT, компьютеры и Интернет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 Авиация и космос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. Дизайн. Творческие профессии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. Консалтинг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6. Красота и здоровье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7. Лингвистика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8. Логистика, склад, ВЭД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9. Маркетинг, реклама и PR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0. Медицина. Фармацевтика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1. Младший обслуживающий персонал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2. Недвижимость, строительство и архитектура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3. Образование и культура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4. Охрана, безопасность, милиц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79250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6. Специальности, связанные с сервисо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ос на профессии сферы обслуживания будет ежегодно возрастать, при этом темпы роста потребности в профессиях сферы обслуживания будут опережать темпы роста потребностей в других востребованных профессиях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1828800" cy="297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7. Логисти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Логистика - теория и практика управления материальными и информационными потоками в процессе товародвижен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ессия логиста подходит тем, кто тяготится в работе жесткими рамками, не любит шаблонов и заданных ограничени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сту понадобятся аналитический ум и системное мышление, интуиция, умение быстро находить выход из сложных ситуаций, навыки общения с людьми, коммуникабельн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52320" y="277920"/>
            <a:ext cx="2514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8. Эколог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ст вредных выбросов в атмосферу ставят проблемы экологии на одно из первых мест в будущем глобальном ми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ость эколога будет требовать знания физики, химии и биологии, навыков компьютер- ного моделирования, проходящих в природе проце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ессия эколога станет одной из важнейших и самых востребованных професси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9. Медицинские специальности, связанные с поиском средств продления жизн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 также понятно и то, что и через десятилетие это будут еще очень дорогие технолог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дицина успешно использует достижения в области электроники, биотехнологий, которые сегодня только еще создаются, исследуются, а через 10 лет, наверняка, войдут в практику, станут привычным в медицине дел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259056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10. Хим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исты в области химии будут особенно востребованы в сфере энерге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2016 г. разработки и исследования в области альтернативных, экологически чистых источников энергии достигнут своего пика - и без химиков здесь будет совсем не обойтис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6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Наиболее востребованными на рынке труда Иркутской области в 2006-2008 гг.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ециалисты с начальным  профессиональным образованием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ециалисты со средним специальным образов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ыми непопулярными в ближайшие два года будут специалисты с высшим образование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ональный рынок перенасыщен программистами, экономистами, бухгалтерами и юриста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ребность организаций региона в рабочей силе ежегодно будет составлять не менее 8 тыс. челове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4496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В основном требуются: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ококвалифицированные рабочие, владеющие смежными специальностями и широким кругом профессиональных навы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ышенным спросом на рынке труда в ближайшие два года будут пользо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строите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плотник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каменщик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маляры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В основном требуются: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работники других строительных, ремонтно-строительных специальност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электросварщик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водители и машинисты подвижного оборудова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операторы, аппаратчики и машинисты установо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воспитате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средний и младший медицинский персон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Где работы будет больше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Аркт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Дальнем Восто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Уральском регион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Центральном федеральном округе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юге Сибир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036600" cy="366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277920"/>
            <a:ext cx="6629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Госзаказ на «спецов» для Сибир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ноз баланса потребности экономики СФО в кадрах показывает, что в настоящее время в системе высшего профессионального образования большой избыток специалистов по направлениям экономики, управления и гуманитарным наук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этом огромный недостаток специалистов в области автоматики, информатики, вычислительной техники, авиационной и ракетно-космической, в здравоохране -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а высшего образования не покрывает потребнос- ти экономики Сибири в кадрах, а особенно в строитель- стве, транспорте, машиностроении и металлообработ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а начального профессионального образования сейчас - это задача из задач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5. Производство, технологии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6. Рестораны, питание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7. Розничная и оптовая торговля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8. Секретариат, делопроизводство, АХО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9. СМИ, издательство, полиграфия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0. Страхование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1. Сфера услуг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2. Телекоммуникации и связь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3. Транспорт, автобизнес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4. Туризм, гостиничное дело, сфера услуг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5. Финансы, бухгалтерия, банк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6. Фитнес и спорт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7. Шоу-бизнес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28. Юриспруденц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Самые востребованные,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или в ком нуждается рынок труда Приангарь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ИСТЫ   В  ОБЛАСТИ   ПРОД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ХГАЛТЕРИЯ И ФИНАН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ИСТЫ   В   ОБЛАСТИ   СТРО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ИСТЫ В ОБЛАСТЯ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ТЕХНОЛОГИЙ И ПРОГРАММИРОВАН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овременный бизнес предъявляет высокие требования и поэтому для успешного развития карьеры вам почти наверняка потребуется знание иностранного языка и уверенное владение компьютером на уровне пользователя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Самые востребованные профессии"/>
          <p:cNvPicPr/>
          <p:nvPr/>
        </p:nvPicPr>
        <p:blipFill>
          <a:blip r:embed="rId1"/>
          <a:stretch/>
        </p:blipFill>
        <p:spPr>
          <a:xfrm>
            <a:off x="3429000" y="22860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277560"/>
            <a:ext cx="4724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T-специалист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прочно завоевали нашу деловую сферу и поэтому каждый, кто умеет программировать, имеет реальный шанс найти стабильную высокооплачиваемую работу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IT-специалист"/>
          <p:cNvPicPr/>
          <p:nvPr/>
        </p:nvPicPr>
        <p:blipFill>
          <a:blip r:embed="rId1"/>
          <a:stretch/>
        </p:blipFill>
        <p:spPr>
          <a:xfrm>
            <a:off x="5105520" y="32767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5105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Офисные работни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востребованы такие профессии как секретарь, менеджер по работе с клиентами, делопроизводители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Офисные работники"/>
          <p:cNvPicPr/>
          <p:nvPr/>
        </p:nvPicPr>
        <p:blipFill>
          <a:blip r:embed="rId1"/>
          <a:stretch/>
        </p:blipFill>
        <p:spPr>
          <a:xfrm>
            <a:off x="3886200" y="32004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520" y="277560"/>
            <a:ext cx="3200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Торговл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десь есть масса вакансий торгового представит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7792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Бухгалтерия и юриспруденц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востребованы профессии бухгалтера и юрис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блема лишь в том, что ожидания работодателя часто не совпадают с запросами претендентов на должн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2438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77920"/>
            <a:ext cx="38098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Строительство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чень хорошие перспективы для тех, кто имеет специальность, связанную со строитель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йчас очень активно строится новое жилье, а уж строительство спортивных сооружений в Сочи сулит стабильную работу и большой опыт всем, кто станет работать в этой отрас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Строительные специальности"/>
          <p:cNvPicPr/>
          <p:nvPr/>
        </p:nvPicPr>
        <p:blipFill>
          <a:blip r:embed="rId1"/>
          <a:stretch/>
        </p:blipFill>
        <p:spPr>
          <a:xfrm>
            <a:off x="4724280" y="35812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t</cp:lastModifiedBy>
  <dcterms:modified xsi:type="dcterms:W3CDTF">2011-03-30T23:43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