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1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8.gif" ContentType="image/gif"/>
  <Override PartName="/ppt/media/image13.gif" ContentType="image/gi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68C-DBA6-45CA-9C8E-AB3FB781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5B2-6524-4139-8285-01E40D66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E7F-0601-47B5-B42C-F5A057DA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3F0-BB7D-4E0E-A01B-3BE8BFEE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97E4-3DDB-4403-B256-6284D852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D44-CA0B-4751-B698-AAFB96DF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227-1F27-4547-9531-80D3080A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DC5C-1160-41E4-A939-2EDC9274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CD1-75B5-4BF8-BAEB-DFEE4B8B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187F-9631-460C-816E-7ABBDC3D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4895-0018-4261-A2DE-F04EC7FC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00D-2E7B-4B25-AB9B-13D94205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0133-B576-41FC-9050-7C0F204A1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39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66ff99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Тесты дл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будущи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рекрасных 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57600" y="1646640"/>
            <a:ext cx="175248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рт 2009г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95480" y="3200400"/>
            <a:ext cx="3429000" cy="2243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1480" y="5791320"/>
            <a:ext cx="35053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ронцова Л.В., МОУ СОШ №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. Усть-Кут, Иркутская о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36160" y="227880"/>
            <a:ext cx="68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. Пирожное с каким «овощным» названием существу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920" y="53280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едис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83240" y="53280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артош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88000" y="53280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еп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11880" y="5328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морков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32200" y="837360"/>
            <a:ext cx="51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. Какой вид мороженого самый жирны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2320" y="114228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ливоч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9560" y="114228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молоч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83800" y="1142280"/>
            <a:ext cx="22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лодово-ягод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96600" y="11422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ломб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32560" y="1447200"/>
            <a:ext cx="657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. Какая из этих пряностей продается в виде горош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8280" y="17517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ани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81080" y="175176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мбир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83080" y="175176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ере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06240" y="175176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ор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2920" y="2056680"/>
            <a:ext cx="63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. Как называются жгучие, сильно перченые блю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9000" y="236160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стр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28800" y="236160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олк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353040" y="236160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олюч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82920" y="23616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ежущ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260604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. Сколько полных чайных ложек жидкости помещается в столовой лож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92760" y="304740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ем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20760" y="304812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д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743920" y="304812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14800" y="304812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я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13200" y="3855960"/>
            <a:ext cx="816480" cy="15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0" rIns="358560" tIns="457200" bIns="571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3526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. В словаре иностранных слов это слово означает «небольшой диван с приподнятым изголовьем». А в современной кухне - это маленький бутерброд на жареном хлебе. Что это за слов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265600" y="5591520"/>
            <a:ext cx="95652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0" rIns="358560" tIns="457200" bIns="571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5680" y="419112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анап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82160" y="419112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о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05320" y="41911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эндви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62720" y="419112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амбург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34000" y="4571280"/>
            <a:ext cx="621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. Какое из этих кушаний не является пасхаль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734320" y="4280400"/>
            <a:ext cx="81648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0" rIns="358560" tIns="457200" bIns="571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9000" y="495288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ас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209680" y="48769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ули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63240" y="49528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яйц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67640" y="49528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л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3640" y="5257080"/>
            <a:ext cx="44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. Назовите страну - родину кетчу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68000" y="54856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Мекс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7960" y="556272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олгар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16400" y="55627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енгр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345200" y="556272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Ш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4720" y="5866920"/>
            <a:ext cx="81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. Какой из этих «кулинарных» глаголов является синонимом сл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заботиться»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734320" y="3899160"/>
            <a:ext cx="81648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0" rIns="358560" tIns="457200" bIns="571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86880" y="649116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жари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40440" y="649116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еч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39920" y="649116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ари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21000" y="649116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уш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3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2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6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115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16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5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0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5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3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95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371600" y="228600"/>
            <a:ext cx="62960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ерификатор, или Проверка девичьей довер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8240" y="1294560"/>
            <a:ext cx="816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олосы Вероники - это знаменитая прическа актрисы Вероники Кастр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355920" y="1675800"/>
            <a:ext cx="54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это созвездие Северного полушария неба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2200" y="2056680"/>
            <a:ext cx="690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Кухонным полотенцем пользоваться в гостиной запрещ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89120" y="2285280"/>
            <a:ext cx="7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7880" y="259020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елерина - это модель футболки, названная в честь «короля футбола»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разильца Пе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78840" y="312372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это большой съемный воротник-накидка на женском плать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верхней одежде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3809520"/>
            <a:ext cx="87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араторка - это специалистка по приготовлению болгарского холодного су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рат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01320" y="4190400"/>
            <a:ext cx="38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это очень болтливая особа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4400" y="4494960"/>
            <a:ext cx="91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ирза - это натуральная кожа.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60320" y="4723560"/>
            <a:ext cx="24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искусственная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6000" y="5028480"/>
            <a:ext cx="77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Джинсы, предназначенные для женщин создали только в 1981 го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32920" y="5333400"/>
            <a:ext cx="53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ранее дамы довольствовались мужскими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5714640"/>
            <a:ext cx="84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деловом центре немецкого Франкфурта-на-Майне поставлен памят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жскому галсту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238880" y="609516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6" dur="indefinite" restart="never" nodeType="tmRoot">
          <p:childTnLst>
            <p:seq>
              <p:cTn id="2297" dur="indefinite" nodeType="mainSeq">
                <p:childTnLst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2" dur="4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3" dur="4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4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4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1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0" dur="4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1" dur="4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4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4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5" dur="4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6" dur="4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4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4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0" dur="4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1" dur="4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4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4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5" dur="4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6" dur="4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4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4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0" dur="4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1" dur="4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4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4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5" dur="4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6" dur="4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4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4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59360" y="30420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Диадему носят на ш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74880" y="304200"/>
            <a:ext cx="19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на голове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560" y="761400"/>
            <a:ext cx="51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летчатую рубашку называют «ковбойкой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54880" y="7614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2240" y="1218600"/>
            <a:ext cx="79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лово «халат» в переводе с арабского означает «почетная одеж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455320" y="1370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57920" y="1751760"/>
            <a:ext cx="71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атуральный шелк - это ткань растительного происхож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052760" y="213300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отного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1880" y="2437920"/>
            <a:ext cx="80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крой рукава «реглан» назван по имени французского генерала,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думавш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12440" y="27424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4680" y="2987280"/>
            <a:ext cx="85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иорама - это показ коллекции одежды французского кутюрье  Кристи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78320" y="3504600"/>
            <a:ext cx="68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это живописная картина с объемным передним планом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6840" y="3809160"/>
            <a:ext cx="41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Фаталистка - это невеста в ф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881440" y="4114080"/>
            <a:ext cx="61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это женщина, верящая в неотвратимость судьбы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4400" y="4434840"/>
            <a:ext cx="80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ликий итальянский композитор Джоаккино Россини был и велик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инар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153280" y="472356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7920" y="518076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ырники готовят из сы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93120" y="525708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из творога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9000" y="586656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Цыпленка-табака готовят в гри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717880" y="609516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на сковороде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1" dur="indefinite" restart="never" nodeType="tmRoot">
          <p:childTnLst>
            <p:seq>
              <p:cTn id="2422" dur="indefinite" nodeType="mainSeq">
                <p:childTnLst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7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2" dur="4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3" dur="4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4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4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7" dur="4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8" dur="4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4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4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5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fill="hold">
                      <p:stCondLst>
                        <p:cond delay="indefinite"/>
                      </p:stCondLst>
                      <p:childTnLst>
                        <p:par>
                          <p:cTn id="2459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2" dur="4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3" dur="4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4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4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7" dur="4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8" dur="4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4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4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8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2" dur="4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3" dur="4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4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4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0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4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8" dur="4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4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0" dur="4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fill="hold">
                      <p:stCondLst>
                        <p:cond delay="indefinite"/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2" dur="4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3" dur="4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4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4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3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7" dur="4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8" dur="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2" dur="4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3" dur="4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4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4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62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7" dur="4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8" dur="4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4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0" dur="4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04200" y="380160"/>
            <a:ext cx="52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дну из своих кантат И. Бах посвятил коф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1880" y="608760"/>
            <a:ext cx="35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это «Кофейная кантата»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7880" y="990000"/>
            <a:ext cx="68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Для приготовления майонеза используются яичные бе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11000" y="1294560"/>
            <a:ext cx="17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желтки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1751760"/>
            <a:ext cx="54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сновой торта «Птичье молоко» служит без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83480" y="182808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фле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29680" y="2208960"/>
            <a:ext cx="54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рильяж - это мясо приготовленное на гри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73640" y="2285280"/>
            <a:ext cx="26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это сорт конфет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31480" y="2742480"/>
            <a:ext cx="77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уп харчо традиционно готовят с использованием пшенной кру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14480" y="3123360"/>
            <a:ext cx="36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для этого супа нужен ри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5720" y="3504600"/>
            <a:ext cx="69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«Говядина по-бургундски» - это блюдо французской кух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697880" y="358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24280" y="3885480"/>
            <a:ext cx="85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огласно этикету, вилку для устриц кладут не слева, а справа от таре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52840" y="4266720"/>
            <a:ext cx="687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французы знают это правило сызмальства, а вот в наш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сторанах то и дело путаются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3200" y="4876200"/>
            <a:ext cx="89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Цена швейного изделия от кутюр выше цены швейного изделия прет-а-пор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3480" y="5181480"/>
            <a:ext cx="871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Прет-а-порте означает «платье, готовое для носки». Это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дели одеж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орые шьются небольшими партиями и продаются в малень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газинах-бутиках, принадлежащих известным домам м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а такого наряда значительно ниже, чем от кутю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зато этот наряд можно носить, а не только любоваться им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3" dur="indefinite" restart="never" nodeType="tmRoot">
          <p:childTnLst>
            <p:seq>
              <p:cTn id="2574" dur="indefinite" nodeType="mainSeq">
                <p:childTnLst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4" dur="4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5" dur="4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4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4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9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4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0" dur="4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4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4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0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4" dur="4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5" dur="4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4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7" dur="4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4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4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0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4" dur="4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5" dur="4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4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4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5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fill="hold">
                      <p:stCondLst>
                        <p:cond delay="indefinite"/>
                      </p:stCondLst>
                      <p:childTnLst>
                        <p:par>
                          <p:cTn id="2656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9" dur="8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0" dur="8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8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2" dur="8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6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0" fill="hold">
                      <p:stCondLst>
                        <p:cond delay="indefinite"/>
                      </p:stCondLst>
                      <p:childTnLst>
                        <p:par>
                          <p:cTn id="2671" fill="hold">
                            <p:stCondLst>
                              <p:cond delay="0"/>
                            </p:stCondLst>
                            <p:childTnLst>
                              <p:par>
                                <p:cTn id="26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4" dur="4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5" dur="4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4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4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9" dur="4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0" dur="4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4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4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722600" y="335520"/>
            <a:ext cx="53395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арфюмерно-косметический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1320" y="1218600"/>
            <a:ext cx="74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Косметического средства с каким названием не существу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163760" y="2228040"/>
            <a:ext cx="81648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0" rIns="358560" tIns="457200" bIns="571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16040" y="174312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314080" y="174312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лив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420800" y="175248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молочк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02240" y="17524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ы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5560" y="2133000"/>
            <a:ext cx="55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Чем красит ресницы современная женщи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877360" y="3732480"/>
            <a:ext cx="816480" cy="15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0" rIns="358560" tIns="457200" bIns="571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87240" y="259092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уш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364120" y="259092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гуаш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192200" y="2590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урьм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15000" y="2666880"/>
            <a:ext cx="12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15720" y="259092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ас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4480" y="31233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Что может сделать блондинку брюнеткой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291080" y="3762720"/>
            <a:ext cx="81648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0" rIns="358560" tIns="457200" bIns="571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7600" y="34862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ш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10760" y="350532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уго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158720" y="352908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ас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020640" y="350532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гутал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2480" y="3809160"/>
            <a:ext cx="81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Помаду какого цвета использовали первые дикторы телевид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63200" y="426708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ело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135520" y="426708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зелено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040280" y="426708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желт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946480" y="42670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че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8880" y="4647600"/>
            <a:ext cx="66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Что используется в парфюмерной промышленн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502848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ландышевый жи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288880" y="502920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оновый марга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726800" y="50292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озовое масл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708960" y="502920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омашковое с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7720" y="5546160"/>
            <a:ext cx="84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Название какого островного государства в Тихом океане совпадает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м известных французских дух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3160" y="624780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Фидж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059200" y="624780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он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429000" y="62478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Филипп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45760" y="624780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амо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5" dur="indefinite" restart="never" nodeType="tmRoot">
          <p:childTnLst>
            <p:seq>
              <p:cTn id="2696" dur="indefinite" nodeType="mainSeq">
                <p:childTnLst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2" fill="hold">
                      <p:stCondLst>
                        <p:cond delay="indefinite"/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8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2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46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6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0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0" fill="hold">
                      <p:stCondLst>
                        <p:cond delay="indefinite"/>
                      </p:stCondLst>
                      <p:childTnLst>
                        <p:par>
                          <p:cTn id="2771" fill="hold">
                            <p:stCondLst>
                              <p:cond delay="0"/>
                            </p:stCondLst>
                            <p:childTnLst>
                              <p:par>
                                <p:cTn id="27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91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2" fill="hold">
                      <p:stCondLst>
                        <p:cond delay="indefinite"/>
                      </p:stCondLst>
                      <p:childTnLst>
                        <p:par>
                          <p:cTn id="2793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1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fill="hold">
                      <p:stCondLst>
                        <p:cond delay="indefinite"/>
                      </p:stCondLst>
                      <p:childTnLst>
                        <p:par>
                          <p:cTn id="2803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5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9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0" fill="hold">
                      <p:stCondLst>
                        <p:cond delay="indefinite"/>
                      </p:stCondLst>
                      <p:childTnLst>
                        <p:par>
                          <p:cTn id="2821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4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5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8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3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8" fill="hold">
                      <p:stCondLst>
                        <p:cond delay="indefinite"/>
                      </p:stCondLst>
                      <p:childTnLst>
                        <p:par>
                          <p:cTn id="2839" fill="hold">
                            <p:stCondLst>
                              <p:cond delay="0"/>
                            </p:stCondLst>
                            <p:childTnLst>
                              <p:par>
                                <p:cTn id="28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4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5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77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8" fill="hold">
                      <p:stCondLst>
                        <p:cond delay="indefinite"/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3" fill="hold">
                      <p:stCondLst>
                        <p:cond delay="indefinite"/>
                      </p:stCondLst>
                      <p:childTnLst>
                        <p:par>
                          <p:cTn id="2884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fill="hold">
                      <p:stCondLst>
                        <p:cond delay="indefinite"/>
                      </p:stCondLst>
                      <p:childTnLst>
                        <p:par>
                          <p:cTn id="2902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5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6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7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8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9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fill="hold">
                      <p:stCondLst>
                        <p:cond delay="indefinite"/>
                      </p:stCondLst>
                      <p:childTnLst>
                        <p:par>
                          <p:cTn id="2911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92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fill="hold">
                      <p:stCondLst>
                        <p:cond delay="indefinite"/>
                      </p:stCondLst>
                      <p:childTnLst>
                        <p:par>
                          <p:cTn id="2924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2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6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6" fill="hold">
                      <p:stCondLst>
                        <p:cond delay="indefinite"/>
                      </p:stCondLst>
                      <p:childTnLst>
                        <p:par>
                          <p:cTn id="2947" fill="hold">
                            <p:stCondLst>
                              <p:cond delay="0"/>
                            </p:stCondLst>
                            <p:childTnLst>
                              <p:par>
                                <p:cTn id="29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967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61520" y="227880"/>
            <a:ext cx="57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Какие зеркала находятся в дамских сумочк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3760" y="60876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астен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441160" y="60948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арман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420800" y="60948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рив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44680" y="60948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заднего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1520" y="1065960"/>
            <a:ext cx="44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Какого цвета волосы у Мальви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81640" y="2697120"/>
            <a:ext cx="18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39880" y="144792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золото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40800" y="144792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озово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192560" y="144792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голубо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717160" y="14479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зеле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41720" y="1828440"/>
            <a:ext cx="832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 Назовите современное гигиеническое средство, в качестве котор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гатые древние римляне использовали состав из скорлупы устриц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а и воды, а бедные обходились углями из кос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011720" y="3566160"/>
            <a:ext cx="8164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0" rIns="358560" tIns="457200" bIns="571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30040" y="281952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зубная па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28195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рем для брит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030640" y="28195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мыл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53080" y="2819520"/>
            <a:ext cx="21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лосьон для л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59360" y="335196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 Из чего древние римляне делали пудру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494400" y="4708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6160" y="373392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з м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58480" y="373392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з ракушеч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190760" y="37339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з фасо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019920" y="37339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з яичной скорлу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0800" y="4114080"/>
            <a:ext cx="56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 Какова роль свеклы в народной космети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716440" y="449496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редство для заг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33520" y="4495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раска для ресни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26240" y="44956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умя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649040" y="44956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они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4400" y="4952160"/>
            <a:ext cx="73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  Какой из этих оттенков краски для волос самый светлы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9051840" y="5803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760" y="541008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расный грана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16760" y="541008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емный кашт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648680" y="541008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епельный блонд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545600" y="541008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чер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8" dur="indefinite" restart="never" nodeType="tmRoot">
          <p:childTnLst>
            <p:seq>
              <p:cTn id="2969" dur="indefinite" nodeType="mainSeq">
                <p:childTnLst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8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9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0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1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2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fill="hold">
                      <p:stCondLst>
                        <p:cond delay="indefinite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2" fill="hold">
                      <p:stCondLst>
                        <p:cond delay="indefinite"/>
                      </p:stCondLst>
                      <p:childTnLst>
                        <p:par>
                          <p:cTn id="3003" fill="hold">
                            <p:stCondLst>
                              <p:cond delay="0"/>
                            </p:stCondLst>
                            <p:childTnLst>
                              <p:par>
                                <p:cTn id="30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14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0" fill="hold">
                      <p:stCondLst>
                        <p:cond delay="indefinite"/>
                      </p:stCondLst>
                      <p:childTnLst>
                        <p:par>
                          <p:cTn id="3021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fill="hold">
                      <p:stCondLst>
                        <p:cond delay="indefinite"/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fill="hold">
                      <p:stCondLst>
                        <p:cond delay="indefinite"/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2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3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4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59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0" fill="hold">
                      <p:stCondLst>
                        <p:cond delay="indefinite"/>
                      </p:stCondLst>
                      <p:childTnLst>
                        <p:par>
                          <p:cTn id="3061" fill="hold">
                            <p:stCondLst>
                              <p:cond delay="0"/>
                            </p:stCondLst>
                            <p:childTnLst>
                              <p:par>
                                <p:cTn id="30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9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3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fill="hold">
                      <p:stCondLst>
                        <p:cond delay="indefinite"/>
                      </p:stCondLst>
                      <p:childTnLst>
                        <p:par>
                          <p:cTn id="3093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1" fill="hold">
                      <p:stCondLst>
                        <p:cond delay="indefinite"/>
                      </p:stCondLst>
                      <p:childTnLst>
                        <p:par>
                          <p:cTn id="3102" fill="hold">
                            <p:stCondLst>
                              <p:cond delay="0"/>
                            </p:stCondLst>
                            <p:childTnLst>
                              <p:par>
                                <p:cTn id="31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04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5" fill="hold">
                      <p:stCondLst>
                        <p:cond delay="indefinite"/>
                      </p:stCondLst>
                      <p:childTnLst>
                        <p:par>
                          <p:cTn id="3106" fill="hold">
                            <p:stCondLst>
                              <p:cond delay="0"/>
                            </p:stCondLst>
                            <p:childTnLst>
                              <p:par>
                                <p:cTn id="3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2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3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4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5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6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7" fill="hold">
                      <p:stCondLst>
                        <p:cond delay="indefinite"/>
                      </p:stCondLst>
                      <p:childTnLst>
                        <p:par>
                          <p:cTn id="3138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49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fill="hold">
                      <p:stCondLst>
                        <p:cond delay="indefinite"/>
                      </p:stCondLst>
                      <p:childTnLst>
                        <p:par>
                          <p:cTn id="3151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fill="hold">
                      <p:stCondLst>
                        <p:cond delay="indefinite"/>
                      </p:stCondLst>
                      <p:childTnLst>
                        <p:par>
                          <p:cTn id="3156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8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9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2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3" fill="hold">
                      <p:stCondLst>
                        <p:cond delay="indefinite"/>
                      </p:stCondLst>
                      <p:childTnLst>
                        <p:par>
                          <p:cTn id="3174" fill="hold">
                            <p:stCondLst>
                              <p:cond delay="0"/>
                            </p:stCondLst>
                            <p:childTnLst>
                              <p:par>
                                <p:cTn id="3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1" fill="hold">
                      <p:stCondLst>
                        <p:cond delay="indefinite"/>
                      </p:stCondLst>
                      <p:childTnLst>
                        <p:par>
                          <p:cTn id="3192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94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9" fill="hold">
                      <p:stCondLst>
                        <p:cond delay="indefinite"/>
                      </p:stCondLst>
                      <p:childTnLst>
                        <p:par>
                          <p:cTn id="3210" fill="hold">
                            <p:stCondLst>
                              <p:cond delay="0"/>
                            </p:stCondLst>
                            <p:childTnLst>
                              <p:par>
                                <p:cTn id="3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8" fill="hold">
                      <p:stCondLst>
                        <p:cond delay="indefinite"/>
                      </p:stCondLst>
                      <p:childTnLst>
                        <p:par>
                          <p:cTn id="3219" fill="hold">
                            <p:stCondLst>
                              <p:cond delay="0"/>
                            </p:stCondLst>
                            <p:childTnLst>
                              <p:par>
                                <p:cTn id="3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2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4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5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6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fill="hold">
                      <p:stCondLst>
                        <p:cond delay="indefinite"/>
                      </p:stCondLst>
                      <p:childTnLst>
                        <p:par>
                          <p:cTn id="3228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fill="hold">
                      <p:stCondLst>
                        <p:cond delay="indefinite"/>
                      </p:stCondLst>
                      <p:childTnLst>
                        <p:par>
                          <p:cTn id="3237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39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464040" y="227880"/>
            <a:ext cx="72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 Что делают с волосами с помощью специальных утюг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63440" y="685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ыжиг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35320" y="6858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уша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05480" y="68580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завиваю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430440" y="68580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ыпрямляю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88800" y="990000"/>
            <a:ext cx="85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. Что из ниже перечисленного не является косметическим средств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452640" y="144720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атуир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30280" y="147168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ма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973240" y="14479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уд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802040" y="144792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р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87000" y="1904400"/>
            <a:ext cx="53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 С чем сравнивают неумеренный макияж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8280" y="228600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 кафе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439000" y="228600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 обо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420800" y="22860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о штукатурк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858000" y="22860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 налич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274284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. Какой предмет декоративной косметики, по мн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инематографистов, исчезает в полден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012080" y="342828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д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11280" y="3429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ш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439360" y="342900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е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116600" y="342900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губная пома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2960" y="3809160"/>
            <a:ext cx="71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. Какому из этих слов «дал жизнь» немецкий город Кель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656480" y="5454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15600" y="4172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деколо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896920" y="41911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лосьо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79440" y="41911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шампу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36120" y="419112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у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62240" y="457128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. Назовите сорт мягких конф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01480" y="49719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удроч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91640" y="495288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реми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344840" y="495288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мад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477120" y="4952880"/>
            <a:ext cx="10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лач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37840" y="5333400"/>
            <a:ext cx="63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. Когда отмечается Международный день красо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595920" y="56379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 сентяб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5680" y="56386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 янва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16400" y="563868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 мар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495680" y="56386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 ию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7543800" y="3886200"/>
            <a:ext cx="1600200" cy="188604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685800" y="2514600"/>
            <a:ext cx="777240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0" dur="indefinite" restart="never" nodeType="tmRoot">
          <p:childTnLst>
            <p:seq>
              <p:cTn id="3241" dur="indefinite" nodeType="mainSeq">
                <p:childTnLst>
                  <p:par>
                    <p:cTn id="3242" fill="hold">
                      <p:stCondLst>
                        <p:cond delay="indefinite"/>
                      </p:stCondLst>
                      <p:childTnLst>
                        <p:par>
                          <p:cTn id="3243" fill="hold">
                            <p:stCondLst>
                              <p:cond delay="0"/>
                            </p:stCondLst>
                            <p:childTnLst>
                              <p:par>
                                <p:cTn id="3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2" fill="hold">
                      <p:stCondLst>
                        <p:cond delay="indefinite"/>
                      </p:stCondLst>
                      <p:childTnLst>
                        <p:par>
                          <p:cTn id="3253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7" fill="hold">
                      <p:stCondLst>
                        <p:cond delay="indefinite"/>
                      </p:stCondLst>
                      <p:childTnLst>
                        <p:par>
                          <p:cTn id="3258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1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0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fill="hold">
                      <p:stCondLst>
                        <p:cond delay="indefinite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fill="hold">
                      <p:stCondLst>
                        <p:cond delay="indefinite"/>
                      </p:stCondLst>
                      <p:childTnLst>
                        <p:par>
                          <p:cTn id="3277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8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fill="hold">
                      <p:stCondLst>
                        <p:cond delay="indefinite"/>
                      </p:stCondLst>
                      <p:childTnLst>
                        <p:par>
                          <p:cTn id="3282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8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1" fill="hold">
                      <p:stCondLst>
                        <p:cond delay="indefinite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5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6" fill="hold">
                      <p:stCondLst>
                        <p:cond delay="indefinite"/>
                      </p:stCondLst>
                      <p:childTnLst>
                        <p:par>
                          <p:cTn id="3297" fill="hold">
                            <p:stCondLst>
                              <p:cond delay="0"/>
                            </p:stCondLst>
                            <p:childTnLst>
                              <p:par>
                                <p:cTn id="32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9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0" fill="hold">
                      <p:stCondLst>
                        <p:cond delay="indefinite"/>
                      </p:stCondLst>
                      <p:childTnLst>
                        <p:par>
                          <p:cTn id="3301" fill="hold">
                            <p:stCondLst>
                              <p:cond delay="0"/>
                            </p:stCondLst>
                            <p:childTnLst>
                              <p:par>
                                <p:cTn id="33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0" fill="hold">
                      <p:stCondLst>
                        <p:cond delay="indefinite"/>
                      </p:stCondLst>
                      <p:childTnLst>
                        <p:par>
                          <p:cTn id="3311" fill="hold">
                            <p:stCondLst>
                              <p:cond delay="0"/>
                            </p:stCondLst>
                            <p:childTnLst>
                              <p:par>
                                <p:cTn id="33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5" fill="hold">
                      <p:stCondLst>
                        <p:cond delay="indefinite"/>
                      </p:stCondLst>
                      <p:childTnLst>
                        <p:par>
                          <p:cTn id="3316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19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fill="hold">
                      <p:stCondLst>
                        <p:cond delay="indefinite"/>
                      </p:stCondLst>
                      <p:childTnLst>
                        <p:par>
                          <p:cTn id="3321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5" fill="hold">
                      <p:stCondLst>
                        <p:cond delay="indefinite"/>
                      </p:stCondLst>
                      <p:childTnLst>
                        <p:par>
                          <p:cTn id="3326" fill="hold">
                            <p:stCondLst>
                              <p:cond delay="0"/>
                            </p:stCondLst>
                            <p:childTnLst>
                              <p:par>
                                <p:cTn id="33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8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9" fill="hold">
                      <p:stCondLst>
                        <p:cond delay="indefinite"/>
                      </p:stCondLst>
                      <p:childTnLst>
                        <p:par>
                          <p:cTn id="3330" fill="hold">
                            <p:stCondLst>
                              <p:cond delay="0"/>
                            </p:stCondLst>
                            <p:childTnLst>
                              <p:par>
                                <p:cTn id="33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4" fill="hold">
                      <p:stCondLst>
                        <p:cond delay="indefinite"/>
                      </p:stCondLst>
                      <p:childTnLst>
                        <p:par>
                          <p:cTn id="3335" fill="hold">
                            <p:stCondLst>
                              <p:cond delay="0"/>
                            </p:stCondLst>
                            <p:childTnLst>
                              <p:par>
                                <p:cTn id="33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fill="hold">
                      <p:stCondLst>
                        <p:cond delay="indefinite"/>
                      </p:stCondLst>
                      <p:childTnLst>
                        <p:par>
                          <p:cTn id="3340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3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fill="hold">
                      <p:stCondLst>
                        <p:cond delay="indefinite"/>
                      </p:stCondLst>
                      <p:childTnLst>
                        <p:par>
                          <p:cTn id="3345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fill="hold">
                      <p:stCondLst>
                        <p:cond delay="indefinite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4" fill="hold">
                      <p:stCondLst>
                        <p:cond delay="indefinite"/>
                      </p:stCondLst>
                      <p:childTnLst>
                        <p:par>
                          <p:cTn id="3355" fill="hold">
                            <p:stCondLst>
                              <p:cond delay="0"/>
                            </p:stCondLst>
                            <p:childTnLst>
                              <p:par>
                                <p:cTn id="33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7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8" fill="hold">
                      <p:stCondLst>
                        <p:cond delay="indefinite"/>
                      </p:stCondLst>
                      <p:childTnLst>
                        <p:par>
                          <p:cTn id="3359" fill="hold">
                            <p:stCondLst>
                              <p:cond delay="0"/>
                            </p:stCondLst>
                            <p:childTnLst>
                              <p:par>
                                <p:cTn id="33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6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3" fill="hold">
                      <p:stCondLst>
                        <p:cond delay="indefinite"/>
                      </p:stCondLst>
                      <p:childTnLst>
                        <p:par>
                          <p:cTn id="3364" fill="hold">
                            <p:stCondLst>
                              <p:cond delay="0"/>
                            </p:stCondLst>
                            <p:childTnLst>
                              <p:par>
                                <p:cTn id="33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67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fill="hold">
                      <p:stCondLst>
                        <p:cond delay="indefinite"/>
                      </p:stCondLst>
                      <p:childTnLst>
                        <p:par>
                          <p:cTn id="3369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7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3" fill="hold">
                      <p:stCondLst>
                        <p:cond delay="indefinite"/>
                      </p:stCondLst>
                      <p:childTnLst>
                        <p:par>
                          <p:cTn id="3374" fill="hold">
                            <p:stCondLst>
                              <p:cond delay="0"/>
                            </p:stCondLst>
                            <p:childTnLst>
                              <p:par>
                                <p:cTn id="33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7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3" fill="hold">
                      <p:stCondLst>
                        <p:cond delay="indefinite"/>
                      </p:stCondLst>
                      <p:childTnLst>
                        <p:par>
                          <p:cTn id="3384" fill="hold">
                            <p:stCondLst>
                              <p:cond delay="0"/>
                            </p:stCondLst>
                            <p:childTnLst>
                              <p:par>
                                <p:cTn id="3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6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7" fill="hold">
                      <p:stCondLst>
                        <p:cond delay="indefinite"/>
                      </p:stCondLst>
                      <p:childTnLst>
                        <p:par>
                          <p:cTn id="3388" fill="hold">
                            <p:stCondLst>
                              <p:cond delay="0"/>
                            </p:stCondLst>
                            <p:childTnLst>
                              <p:par>
                                <p:cTn id="33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2" fill="hold">
                      <p:stCondLst>
                        <p:cond delay="indefinite"/>
                      </p:stCondLst>
                      <p:childTnLst>
                        <p:par>
                          <p:cTn id="3393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7" fill="hold">
                      <p:stCondLst>
                        <p:cond delay="indefinite"/>
                      </p:stCondLst>
                      <p:childTnLst>
                        <p:par>
                          <p:cTn id="3398" fill="hold">
                            <p:stCondLst>
                              <p:cond delay="0"/>
                            </p:stCondLst>
                            <p:childTnLst>
                              <p:par>
                                <p:cTn id="3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2" fill="hold">
                      <p:stCondLst>
                        <p:cond delay="indefinite"/>
                      </p:stCondLst>
                      <p:childTnLst>
                        <p:par>
                          <p:cTn id="3403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2" fill="hold">
                      <p:stCondLst>
                        <p:cond delay="indefinite"/>
                      </p:stCondLst>
                      <p:childTnLst>
                        <p:par>
                          <p:cTn id="3413" fill="hold">
                            <p:stCondLst>
                              <p:cond delay="0"/>
                            </p:stCondLst>
                            <p:childTnLst>
                              <p:par>
                                <p:cTn id="34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5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fill="hold">
                      <p:stCondLst>
                        <p:cond delay="indefinite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2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1" fill="hold">
                      <p:stCondLst>
                        <p:cond delay="indefinite"/>
                      </p:stCondLst>
                      <p:childTnLst>
                        <p:par>
                          <p:cTn id="3422" fill="hold">
                            <p:stCondLst>
                              <p:cond delay="0"/>
                            </p:stCondLst>
                            <p:childTnLst>
                              <p:par>
                                <p:cTn id="34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6" fill="hold">
                      <p:stCondLst>
                        <p:cond delay="indefinite"/>
                      </p:stCondLst>
                      <p:childTnLst>
                        <p:par>
                          <p:cTn id="3427" fill="hold">
                            <p:stCondLst>
                              <p:cond delay="0"/>
                            </p:stCondLst>
                            <p:childTnLst>
                              <p:par>
                                <p:cTn id="34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1" fill="hold">
                      <p:stCondLst>
                        <p:cond delay="indefinite"/>
                      </p:stCondLst>
                      <p:childTnLst>
                        <p:par>
                          <p:cTn id="3432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6" fill="hold">
                      <p:stCondLst>
                        <p:cond delay="indefinite"/>
                      </p:stCondLst>
                      <p:childTnLst>
                        <p:par>
                          <p:cTn id="3437" fill="hold">
                            <p:stCondLst>
                              <p:cond delay="0"/>
                            </p:stCondLst>
                            <p:childTnLst>
                              <p:par>
                                <p:cTn id="34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0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4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fill="hold">
                      <p:stCondLst>
                        <p:cond delay="indefinite"/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3" fill="hold">
                      <p:stCondLst>
                        <p:cond delay="indefinite"/>
                      </p:stCondLst>
                      <p:childTnLst>
                        <p:par>
                          <p:cTn id="3464" fill="hold">
                            <p:stCondLst>
                              <p:cond delay="0"/>
                            </p:stCondLst>
                            <p:childTnLst>
                              <p:par>
                                <p:cTn id="3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55920" y="227880"/>
            <a:ext cx="23097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Модный 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2560" y="76104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Какой звук издает м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142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пи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14264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ры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9360" y="1143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хри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1320" y="11430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из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29528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3640" y="144684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Как называют манекенщицу суперклас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800" y="175176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топ-моде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61600" y="175176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оп-моде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6520" y="175176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рок-моде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6560" y="175176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рэп-модел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1480" y="2056320"/>
            <a:ext cx="59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Назовите настоящее имя Коко Шан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361240"/>
            <a:ext cx="10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Мар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7760" y="236124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Габрие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0800" y="2361240"/>
            <a:ext cx="12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Брижи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83480" y="236124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Анжел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" y="2742120"/>
            <a:ext cx="61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Кто из этих кутюрье родился в Италии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5280" y="312336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Кристиан Диор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36120" y="312336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Юбер де Живанши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3123360"/>
            <a:ext cx="201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Ив Сен-Лоран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46920" y="312336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жанни Версач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42756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Как называется небольшой магазин, торгующий одеждой суперкласса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1600" y="411372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бати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3040" y="411372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батни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5000" y="411372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ути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9960" y="411372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битни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418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Какой из этих международных размеров одежды самый маленьк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360" y="4799520"/>
            <a:ext cx="5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4800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480060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4799520"/>
            <a:ext cx="6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3840" y="5166360"/>
            <a:ext cx="24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маленький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419720" y="5029200"/>
            <a:ext cx="1295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21276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Какая латинская буква не используется в международной маркировке размеров одеж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975240"/>
            <a:ext cx="6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480" y="989640"/>
            <a:ext cx="6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81640" y="9896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86760" y="989640"/>
            <a:ext cx="6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0120" y="609480"/>
            <a:ext cx="1181160" cy="1371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1326240"/>
            <a:ext cx="57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Какая одежда бывает спасательн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4000" y="201204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Как называется женский шарф из перье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28000" y="1816200"/>
            <a:ext cx="2016000" cy="15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58560" tIns="457200" bIns="571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5800" y="2665800"/>
            <a:ext cx="78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Что отсутствует в традиционном японском кимо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304704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воротни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6520" y="3351240"/>
            <a:ext cx="863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. Как называются пышные складки на женских рукавах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юб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3961440"/>
            <a:ext cx="12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фиж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1560" y="4266000"/>
            <a:ext cx="89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. Как называется один из вариантов цельнокроеного рука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631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девичий переполо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4647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летучая мышь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46472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целуй Чанит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46472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вольный вете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280" y="167544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май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16754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ил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167544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юб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01320" y="167544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носк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36124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пухови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362320"/>
            <a:ext cx="76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бо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50640" y="236232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алант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53240" y="23623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каш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02580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рука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4640" y="3025800"/>
            <a:ext cx="14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угови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8320" y="302580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оя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94020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рюш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6560" y="396252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вол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960" y="396252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буф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86200" y="4952880"/>
            <a:ext cx="1447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32920" y="227520"/>
            <a:ext cx="69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. Что из перечисленного не является шарф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24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ман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бо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880" y="533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каш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74320" y="53352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алант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91296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. Название какого из этих предметов одежды не име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еографических корн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3480" y="15991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берму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4480" y="159912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бики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7800" y="15991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ана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9240" y="1599120"/>
            <a:ext cx="14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колготк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82736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 Как называется большой пляжный платок, надеваем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ерх купаль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560" y="251352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бо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251352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жаб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25135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мант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3240" y="25135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аре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74176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. Что из перечисленного женщина может накинуть себе на пле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200" y="34279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бельведе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3040" y="342792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галере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0920" y="342792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ротонда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34138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авиль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406944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. Какой из этих видов одежды обычно шьют из мех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5280" y="441864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фра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62680" y="4418640"/>
            <a:ext cx="110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нт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4418640"/>
            <a:ext cx="124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блайз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10640" y="441864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бридж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7246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. Название какого головного убора произошло от слова «тень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5402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бер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548640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илот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548640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сомбрер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5485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цилин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57967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«тень» по-испанск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733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Ротонда - длинная женская накидка без рукавов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001000" y="5638680"/>
            <a:ext cx="1143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183240"/>
            <a:ext cx="76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. Как называется один из видов пляжных тапоч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4561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вьетнамк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китаянк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58480" y="45720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кампучий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16960" y="45720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таитян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0400" y="761040"/>
            <a:ext cx="41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. Какая ткань существу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6000" y="106596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оль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1065960"/>
            <a:ext cx="15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шотлан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16960" y="106596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испа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21360" y="106596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фи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7600" y="1340280"/>
            <a:ext cx="81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. Какой рисунок традиционно имеет ткань шотланд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200" y="167544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гороше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760" y="167544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оло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7280" y="167544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клет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1675440"/>
            <a:ext cx="11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елоч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012040"/>
            <a:ext cx="39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. Чем стягивают корс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36124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жгут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236124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ортупе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7240" y="236124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монтажными болт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05720" y="23612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шнур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26654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. Какое из этих слов означает не только танец, но и предмет мужской одеж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341388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фарандо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37560" y="342792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мазур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3427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бути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99720" y="3413880"/>
            <a:ext cx="11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боле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4175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. Как называется пышный рукав женского платья, похожий по форме на осветительный приб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560" y="487584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б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487692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торш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48769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фонари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48758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ночни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37332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Болеро - короткая безрукавка, часть мужского национального испанского костюма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620120" y="4419720"/>
            <a:ext cx="1295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22716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. Какая из перечисленной одежды застегивается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уговиц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8373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лайз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вите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8380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джемп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838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улов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4000" y="140220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. Что из ниже перечисленного нашивается на брю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1675440"/>
            <a:ext cx="139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шевро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7440" y="167544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аксельбан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9400" y="167544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лампа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81680" y="167544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эполет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3640" y="1979640"/>
            <a:ext cx="84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7. Как называется предмет одежды для согревания ки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265176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муф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35520" y="26661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кист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20080" y="2666160"/>
            <a:ext cx="145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горжет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81680" y="2666160"/>
            <a:ext cx="12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гамаш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29703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. В какой предмет одежды плачутся, ища утешен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чувств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560" y="365652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блузк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9720" y="365652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в жилет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8000" y="365652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в пиджак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34320" y="365652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в ша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4004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9. Что «украшает» планету Сатур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328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серьг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432828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брасле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25360" y="434232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кольц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86960" y="434232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кол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45720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. Какое из этих украшений предназначено для ношения на голо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5256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кул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533412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диад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24280" y="533412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коль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53330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ектора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142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Блайзер - приталенный пиджак с пуговицам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659040" y="5334120"/>
            <a:ext cx="1484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913840" y="227880"/>
            <a:ext cx="30366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Кулинарный 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7621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ой из этих предметов кухонной утвари использ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процессе приготовления макар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1840" y="1904400"/>
            <a:ext cx="60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Как называется котел для приготовления пищ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209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астраха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4800" y="22096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юм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30640" y="220968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аз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22096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язан;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55000" y="1523880"/>
            <a:ext cx="14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шумов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15238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дуршла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40480" y="1523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реше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7440" y="15238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си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9960" y="2742480"/>
            <a:ext cx="62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Какой из этих продуктов не содержит холестери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3720" y="312336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уриные окороч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64120" y="312336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дсолнечное масло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 rot="10800000">
            <a:off x="4038480" y="2985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опченая колбаса;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52560" y="312336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ыбное фи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7000" y="3656880"/>
            <a:ext cx="660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Какой из этих соусов принадлежит грузинской кух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2320" y="40377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олоньез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7800" y="403776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арта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34280" y="403776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кема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3657600"/>
            <a:ext cx="212400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358560" tIns="457200" bIns="571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ешам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8880" y="4494960"/>
            <a:ext cx="50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Чем обычно заправляют салат олив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6720" y="50284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майонез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8120" y="5028480"/>
            <a:ext cx="29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астительным масл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23560" y="50284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уксус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1240" y="4616280"/>
            <a:ext cx="256608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0" rIns="358560" tIns="457200" bIns="571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горчиц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1040" y="5409360"/>
            <a:ext cx="649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Какую кашу называют «кашей английских королей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40440" y="59436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гречневу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96400" y="594360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исову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54880" y="59436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ман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8640" y="5943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всяну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010280" y="1219320"/>
            <a:ext cx="19051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0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39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8600" y="22824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Какое блюдо французской кухни, судя по названию, не может быть приготовлено без уксуса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6360" y="837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майоне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8840" y="8373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марина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87640" y="83736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инегре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4680" y="8373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жюлье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8640" y="1142280"/>
            <a:ext cx="37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naig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«уксус» по-французск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15235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Что из перечисленного не предназначено для хранения соответствующего продук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1240" y="205668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хлебниц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11120" y="20566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ахарниц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67800" y="205668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яичниц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97320" y="205668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еречн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3640" y="2437560"/>
            <a:ext cx="68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 Из какой крупы готовят легендарную гурьевскую каш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0040" y="27424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з гречнев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7440" y="274248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з пшен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91480" y="27424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з манно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96600" y="27424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з овся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6600" y="312336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 Из чего готовят варенец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5280" y="34282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з те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81440" y="342828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з картофел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342828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з яго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91320" y="342828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з мол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3720" y="3809160"/>
            <a:ext cx="74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 Для приготовления какого блюда вам не понадобится рис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3040" y="41140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мамалы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10040" y="41140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аэль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34280" y="411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изотт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63800" y="41140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5760" y="441900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Мамалыга - густая каша из кукурузной крупы и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ки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0200" y="4799880"/>
            <a:ext cx="62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 Какое из этих мучных изделий не имеет начин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8280" y="51048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чебур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135520" y="51048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галуш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16600" y="510480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асстега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1880" y="51048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еляш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54097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 В каком из этих первых блюд согласно традиционному рецепту, должны быть маслины и лимон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3040" y="601920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арат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34800" y="60192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орщ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35360" y="60192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оля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11160" y="601920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ассоль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543800" y="990720"/>
            <a:ext cx="1600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95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7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2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227880"/>
            <a:ext cx="46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. Как в старину называли пельмен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9360" y="53280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медвежье ушк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92360" y="53280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росячий пятач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59240" y="532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озья нож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33960" y="532800"/>
            <a:ext cx="20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ячий хвост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34720" y="83736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 Какое тесто существу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9720" y="114228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есча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59560" y="114228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есчаников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41000" y="114228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есоч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17160" y="114228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есцов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1447200"/>
            <a:ext cx="87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. Как называется кусок говядины из спинной части, отбитый и обжаренный в яйце и сухаря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7920" y="198036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шницел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10760" y="198036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аз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4480" y="198036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омштек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59240" y="19803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гуляш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7240" y="2285280"/>
            <a:ext cx="791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. Какой деликатес во Франции называют «устрицами бедняков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920" y="25902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реве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133000" y="259020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мид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06040" y="259020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лягушачьи лап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8040" y="259020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м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3280" y="289476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. Из какого теста готовят экле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8640" y="319968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з слоено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87800" y="319968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з песочно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68520" y="3199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з дрожжево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31200" y="3199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з завар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2200" y="3504600"/>
            <a:ext cx="36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. Что может делать мол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920" y="380916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ъеживатьс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64480" y="38091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ертыватьс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21520" y="3809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аспуска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78920" y="38091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завязыва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41144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. Название какого пирожного в переводе с французского означает «поцелуй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8280" y="472356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ез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52480" y="472356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эклер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23720" y="47235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искви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725360" y="472356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ом-ба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52280" y="5029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. Название какого кондитерского изделия переводится с немецкого как «водоворот, пучин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8280" y="563796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ез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563796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эклер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25160" y="563796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штрудел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06960" y="56379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рек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010280" y="5334120"/>
            <a:ext cx="213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1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5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0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9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8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st</cp:lastModifiedBy>
  <dcterms:modified xsi:type="dcterms:W3CDTF">2011-02-12T14:31:5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