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EC2-A899-4EC3-BCB8-716494B4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BDC-B525-4725-B7D7-B81DB737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172-04C3-4312-8A5B-46DF92B2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D0D-E99B-450D-B37F-C658DFC9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3E2-9E47-4AD6-9C30-2D2644B2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8DC-22C8-4B3E-8A83-FB7B4542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854-F00C-44A2-BB05-8CA7F336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3EF-32E8-4830-9753-B2D0CCB3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ABA-A65D-4F79-8BDF-88730A7D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541-4740-4CB1-BB73-8C39A8F1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141-9987-4514-A6AA-4C1F3AD3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657-4E4F-48F8-A1A7-29537637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3ED4-120D-4736-BA12-F3A4FE43C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ы для настоящих будущих муж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240" y="152388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нь Защитников От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враль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5410080"/>
            <a:ext cx="2895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ронцова Л.В. –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странны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СОШ № 7 г. Усть-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кутская об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5520" y="227520"/>
            <a:ext cx="67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Какие существуют виды холодного оружи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560" y="609480"/>
            <a:ext cx="13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бул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) кист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) п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) ме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4120" y="610920"/>
            <a:ext cx="19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) сек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) боевой топ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7) шпа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) саб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920" y="609480"/>
            <a:ext cx="140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9) ша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) кинж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1) нож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2) шты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11360" y="609480"/>
            <a:ext cx="140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3) корт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4) копь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5) це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6) па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17514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Как называется часть войск, идущая впереди главных си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88760" y="2133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Авангар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2360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Какой танк считался самым лучшим в период второй мировой войны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16640" y="2819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Т-3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31230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Какие воинские звания существуют в современной армии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350532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рядо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) ефрейт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) младший сержа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) сержа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) прапорщ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840" y="3505320"/>
            <a:ext cx="267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) старший прапорщ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7) младший лейтена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) лейтена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9) старший лейтена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) капита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350532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1) майор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2) подполковн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3) полковн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4) генер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5) генерал-май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71720" y="3504960"/>
            <a:ext cx="266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6) генерал-лейтена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7) генерал-полковн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8) генерал арм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9) марша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5104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ак называется повозка для пулемёта, прославленная в известной песне о гражданской войне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17720" y="5562000"/>
            <a:ext cx="12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тача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6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4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9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136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Как прозвали в народе гвардейский миномёт «БМ – 13» в годы Великой Отечественной войны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08600" y="5328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«Катюш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8366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Чем прославились Н.Ф. Макаров, М.Т. Калашников, В.А. Дегтярё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1218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Н.Ф. Макаров изобрёл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истолет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М.Т. Калашников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втомат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В.А. Дегтярёв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улемёт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0440" y="1751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 Какие виды метательного и стрелкового оружия вы знает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6400" y="2208960"/>
            <a:ext cx="61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ук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2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ротик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3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аща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4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амострел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5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рбал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4447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 Отборная и привилегированная часть войск. В России впервые создана Петром I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65080" y="289476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гвард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31989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 Кто четыре раза был удостоен звания Героя Советского Союз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63640" y="35805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К.Жу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28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2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8366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О ком в армии говорят, что они ошибаются один раз в жизн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88400" y="12193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о сапё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" y="159912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Как называется здание, в котором живут солда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164720" y="19803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каза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2845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Как называют бойца, владеющего искусством меткой стрельбы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4360" y="2742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снайп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1480" y="3047040"/>
            <a:ext cx="35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Что такое камуфляж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34286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аскировк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едметов путём окраски полосами, пятнами, искажающими их очертания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2200" y="3961440"/>
            <a:ext cx="59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Какие головные уборы носят солдаты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1200" y="4342680"/>
            <a:ext cx="31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фуражк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пилотк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к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120" y="460260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Что такое наряд вне очереди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8200" y="5028480"/>
            <a:ext cx="78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рмейское взыскание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требование выполнить определённую рабо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54086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Как называют наплечные знаки в русской армии и на флоте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586656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погон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пол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1840" y="30384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Как называется смотр войск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16280" y="3801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пар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8880" y="91332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Чем заканчивается успешная вой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87320" y="9900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побед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522800"/>
            <a:ext cx="48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Где прячется солдат от пуль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3640" y="15994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в окоп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4360" y="22086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 Военный китель или блюдо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9800" y="228528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картошка в мунди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29703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. Приспособление для размещения патронов в огнестрель- ном оружии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5440" y="3428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магаз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0370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3. Гусеничная военная машина с поворотной артиллерийс- кой башне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17000" y="449496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тан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8160" y="5180400"/>
            <a:ext cx="77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. Чем солдаты защищаются от отравляющих газов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84200" y="56379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противогаз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3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4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5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8600" y="303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 Какого цвета каски носят солдаты миротворческих сил ОО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8880" y="76140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голубой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- цвет мирного н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1103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 Секретное условное слово или фраза, которые используются для опознавания своих людей в караульн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3640" y="190440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паро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2346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. Какое подразделение солдат обозначается тем же словом, что и источник питания постоянного электрического ток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64720" y="312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батаре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3421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. Какое подразделение солдат обозначается тем же словом, что и приспособление в ударном механизм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17000" y="388548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взв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7320" y="4266000"/>
            <a:ext cx="88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. Название какого огнестрельного оружия начинается нот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12800" y="472356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револьв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49910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. Какое название радиолокационной установки и огнестрельного оружия можно читать как слева направо, так и справа налево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39960" y="57906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рада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219320" y="0"/>
            <a:ext cx="67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121920" y="199080"/>
            <a:ext cx="3574800" cy="5814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99ffcc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боры в армию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5600" y="837000"/>
            <a:ext cx="75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исок необходимых вещей для призывного пун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5280" y="1295280"/>
            <a:ext cx="203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юкза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Зубная па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Зубная щёт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Мы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16040" y="1295280"/>
            <a:ext cx="166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Полотенц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родук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Спич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Нит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3440" y="1295280"/>
            <a:ext cx="16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Игол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Нож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Лож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Нож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6440" y="1295280"/>
            <a:ext cx="207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Круж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Чистое бель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Руч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 Бума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200" y="2589840"/>
            <a:ext cx="386424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cc99"/>
              </a:gs>
              <a:gs pos="100000">
                <a:srgbClr val="cc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Армейский слен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1120" y="3199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емб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0" y="3199680"/>
            <a:ext cx="65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оеннослужащий, закончивший срочную службу в арм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1120" y="358056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ала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24240" y="358056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лдат 1-го года служ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396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Черп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24240" y="396180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лдат, принявший прися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6720" y="434268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у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24600" y="43426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изывник, еще не принявший прися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6360" y="4799880"/>
            <a:ext cx="6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6480" y="47998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тарослужащий, солдат 2-го года служ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9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0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1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5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9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1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9440" y="66996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льнозоркого мне да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ко мне приблизил дал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20960" y="14472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инок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182664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Девушка» ход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сню заво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аг услыши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азу не дыш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70120" y="33519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Катюш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6000" y="3702960"/>
            <a:ext cx="268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горе-гор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оят стару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охн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юди глох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21320" y="51048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уш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11520" y="578880"/>
            <a:ext cx="29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зёт черепах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льная рубах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аг – в овра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она, где вра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22280" y="205668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анк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12240" y="2360160"/>
            <a:ext cx="318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то свято хра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чизны по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ночью, и дн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погоде любой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8760" y="3809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грани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8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9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4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6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2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3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8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9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0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6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7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3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4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9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0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1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6172200" cy="7920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От рыцарей до солда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6553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9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Какое оружие связано с именем Дамок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295280"/>
            <a:ext cx="7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ук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840" y="129528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аб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129528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п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952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е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38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Что, согласно обычаю, в знак примирения индей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али с оружием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286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опи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2286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акапывал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арили враг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2286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ешали на дерев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90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Какое оружие в случае промаха возвращается к владельцу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омагав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ятаг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3048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умеран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Першинг-2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105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Каким, согласно крылатому выражению, бывает отважный и смелый рыцарь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526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Чем заряжается арбалет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стрелой;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3657600"/>
            <a:ext cx="13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опором;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48160" y="365760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электроэнер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2200" y="365760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ртеч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0384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371520" indent="-371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Ношение какого холодного оружия считалось в Средние века отличительной чертой рыцаря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меч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шпа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ятаг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унча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з кола и двора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5943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з страха и упре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7600" y="5942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з руля и коле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26960" y="594288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з царя в голов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Что должен был сделать рыцарь во время турнира, чтобы показать свое бесстраш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11430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тбросить щ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600" y="83808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вернуться к сопернику спи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14300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йти с ко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1520" y="8380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днять забра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Почему рыцари, отправляясь в разведку, не надевали свои доспех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520" y="22096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ля маскиров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1240" y="251460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оспехи слишком тяжел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22096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оспехи шумел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7120" y="251460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доспехах нельзя отсту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8195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Для чего в латах рыцарей проделывали отверст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3040" y="3429000"/>
            <a:ext cx="27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ля уменьшения вес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3400" y="31240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чтобы вешать награ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6040" y="31240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ля доступа возду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6760" y="342900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чтобы застревало копье против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7339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Как называлось рыцарское военное состязание в средневековой Европ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6000" y="4419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урни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уэ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41972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и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3080" y="472428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тенка на сте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50292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 Как называется «бронежилет» времен Александра Невск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1600" y="56386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мзо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11840" y="56386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не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4480" y="56386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льчуг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563868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убл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8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 Какую часть тела древнерусского воина защищала барм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1240" y="9144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леч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6040" y="9144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ше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9144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ок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5040" y="9144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д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219320"/>
            <a:ext cx="670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 Где впервые появились гусарские части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280" y="152388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Румы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5320" y="15238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Венгр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5238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о Фран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15238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. Что военнослужащие чистят при помощи шомпола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1600" y="2286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дежд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5320" y="2286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обув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0800" y="228600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руж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5400" y="2286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ш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743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 Как называется элемент стрелкового оружия, позволяющий прицели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280" y="335268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лошка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3400" y="335268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чел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9760" y="33526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уш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6120" y="33526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ош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8862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 Как называется сумка или пояс с гнездами для ружейных патрон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7080" y="44956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атронташ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40080" y="44956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атронн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449568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атронни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6840" y="44956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атро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5029200" cy="63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6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Наша армия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83808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Как в просторечии называют солдатский вещевой мешок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720" y="12193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емё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39000" y="12193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ед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12193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идо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40320" y="12193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523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Как называется солдатская шинель, свернутая в трубку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язанная в кольцо для ношения через плеч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5640" y="2209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кат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6040" y="22096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амокрут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5360" y="220968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руч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9600" y="22096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ви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51460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Где военные носят эполеты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3040" y="2819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а голо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2720" y="28195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а плеч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50120" y="281952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а рукав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60520" y="2819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а штан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00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Крест какого цвета изображен на полотнище Андреев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лага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2320" y="38862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желт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40440" y="38862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расн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25720" y="38862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олуб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8400" y="388620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еле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191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 в русской армии начал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ека назы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анника военного училищ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2320" y="48769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юн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9360" y="487692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юни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1680" y="48769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юнк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8040" y="4876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юнн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1814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Какой процедуре подвергают военную технику для защи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 коррозии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6360" y="586728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аринова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92360" y="586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ваше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867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астер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82400" y="58672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нсерв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2286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Какой из этих отечественных танков стал легендой В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ровой вой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8640" y="9144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-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4640" y="9144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-3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2920" y="9144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-5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45240" y="9144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-6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2193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Что из перечисленного есть у танка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9360" y="152388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аш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920" y="152388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упо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2920" y="16002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лан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9640" y="16002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ы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82880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Как танкисты обычно попадают в танк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9360" y="220968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через моторный отс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9000" y="251460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через смотровую ще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9400" y="2209680"/>
            <a:ext cx="26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через башенный лю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25146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через орудийный ст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Вспомнив известное стихотворение Михаила Юрьеви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рмонтова, ответьте, участники какой битвы носили кивер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2680" y="350532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арафонс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80988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уликовс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2040" y="358128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ородинс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1320" y="388620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талинград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41148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 Что из перечисленного во время Великой Отечест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йны называли «катюшам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9000" y="48006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кетные установ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6840" y="510552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омбардировщ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7280" y="48006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дводные лод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9080" y="510552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лковые оркест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541008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 В какой из этих боевых единиц самый многочисл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ипаж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960" y="601992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самолете-истребите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040" y="6248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тан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06960" y="62485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авианос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880" y="60199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подводной лод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 Какое имя получил в армии штурмовик СУ-25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3040" y="60948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пчел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17120" y="6094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шмель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9080" y="6094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грач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40680" y="6094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пингви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9144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. Какую команду дает наблюдатель при появл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ажеского самол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6000" y="16002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Воздух!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92360" y="16002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Небо!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2040" y="16002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Солнце!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8040" y="160020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Затмение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9051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 Как называются левая и правая части фронта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6000" y="2286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алан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39000" y="22860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лан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5360" y="228600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ланц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5040" y="228600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ламанд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666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 Чего желают военнослужащие РФ, отвеча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ветствие старшего по зван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6720" y="33526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часть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4120" y="335268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спех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95320" y="33526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юбв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720" y="335268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дра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733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. Как называется частая и мощная стрельба из мног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тиллерийских орудий во время боевых действий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360" y="44197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нт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4480" y="441972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нона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96040" y="4419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алю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9440" y="44197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арти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4800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. Каким словом военнослужащий подтверждает св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товность к исполнению приказа командира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2680" y="55627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Да!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3400" y="556272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Есть!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556272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О'кей!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3840" y="556272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«Заметано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304920"/>
            <a:ext cx="8534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. Какой формы не существует в Вооруженных Сил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ой Федерации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6720" y="106668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арад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8160" y="106668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вседнев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8360" y="10666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лев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12440" y="106668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омаш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523880"/>
            <a:ext cx="853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. Какая из перечисленных должностей не относитс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андному составу Вооруженных Сил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28600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мэс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720" y="2286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мб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49760" y="228600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мфор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82040" y="228600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мд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7432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. Военнослужащие каких войск называют себя «голуб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ретами»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560" y="35053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есант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39360" y="35053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оря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350532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етч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82400" y="35053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анкис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65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980720" y="303840"/>
            <a:ext cx="56671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Слава наша вечна буде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91440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Как назывались первые русские воины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32280" y="9907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ружи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2952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Русские полководцы и военачальники, с котор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язаны победы русского оружия до 1917 год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0574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Александр Нев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) Дмитрий Донс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) А.В. Суво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) М.И. Кутуз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) Фёдор Фёдорович Уша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) П.А. Румянце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7) П.И. Баграти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0574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) Г.А. Спири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9) А.А. Поп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) С.О. Мак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1) М.Д. Скобеле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2) Д.В. Давы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3) П.С. Нахим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4) В.А. Корни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403776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Какому русскому полководцу принадлежат эти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уля – дура, штык – молодец»,         «Сам погибай, а товарища выручай», «Воюют не числом, а умением»,         «Тяжело в ученье, легко в бою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7120" y="5104800"/>
            <a:ext cx="20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А.В. Суворо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st</cp:lastModifiedBy>
  <dcterms:modified xsi:type="dcterms:W3CDTF">2011-02-12T16:35:1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