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9E13-6CC7-431C-96C6-E241B080F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7FAB-8EA1-4590-9226-F19908AEC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33BB-1D19-4F2B-81AE-03C0B9F85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3848-2938-4A71-A04E-7F1531786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7D77-17DD-4995-9AE5-F6FEE0623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C0B2-6BCA-47B4-AA45-B2CC065A5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0E5F-2728-4A7A-A044-1C142B2E0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2307-9274-45CC-95EE-99E8E9918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2B89-F4AF-4142-B886-D614ADE8B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1048-5260-4A72-B04A-EF032403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A8E6-E0D9-4173-B648-4FA60EAA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2857-B942-4709-823E-EF97F410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ccecff"/>
            </a:gs>
            <a:gs pos="100000">
              <a:srgbClr val="99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53573-BDD8-4631-8869-F668BB4EA7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cffcc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«Свой бизнес?</a:t>
            </a:r>
            <a:br>
              <a:rPr sz="4400"/>
            </a:b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Да, это возможно!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ловая игра с элементом тренин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j0195384"/>
          <p:cNvPicPr/>
          <p:nvPr/>
        </p:nvPicPr>
        <p:blipFill>
          <a:blip r:embed="rId1"/>
          <a:stretch/>
        </p:blipFill>
        <p:spPr>
          <a:xfrm>
            <a:off x="2209680" y="4038480"/>
            <a:ext cx="2362320" cy="221004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6"/>
          <p:cNvSpPr/>
          <p:nvPr/>
        </p:nvSpPr>
        <p:spPr>
          <a:xfrm>
            <a:off x="5410080" y="5257800"/>
            <a:ext cx="3276720" cy="12193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ронцова Л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СОШ №7 г. Усть-К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иностранных язы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60093"/>
                </a:solidFill>
                <a:latin typeface="Arial"/>
              </a:rPr>
              <a:t>«До новых встреч! </a:t>
            </a:r>
            <a:br>
              <a:rPr sz="3600"/>
            </a:br>
            <a:r>
              <a:rPr b="0" lang="ru-RU" sz="3600" spc="-1" strike="noStrike">
                <a:solidFill>
                  <a:srgbClr val="d60093"/>
                </a:solidFill>
                <a:latin typeface="Arial"/>
              </a:rPr>
              <a:t>Спасибо за приятный день!</a:t>
            </a:r>
            <a:r>
              <a:rPr b="0" lang="ru-RU" sz="4400" spc="-1" strike="noStrike">
                <a:solidFill>
                  <a:srgbClr val="d60093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80880" y="16765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60093"/>
                </a:solidFill>
                <a:latin typeface="Arial"/>
              </a:rPr>
              <a:t>Спасибо за приятный час!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S6"/>
          <p:cNvPicPr/>
          <p:nvPr/>
        </p:nvPicPr>
        <p:blipFill>
          <a:blip r:embed="rId1"/>
          <a:stretch/>
        </p:blipFill>
        <p:spPr>
          <a:xfrm>
            <a:off x="533520" y="4343400"/>
            <a:ext cx="1295280" cy="1290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1b4"/>
          <p:cNvPicPr/>
          <p:nvPr/>
        </p:nvPicPr>
        <p:blipFill>
          <a:blip r:embed="rId2"/>
          <a:stretch/>
        </p:blipFill>
        <p:spPr>
          <a:xfrm>
            <a:off x="1371600" y="2819520"/>
            <a:ext cx="1371600" cy="1295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AG00036_"/>
          <p:cNvPicPr/>
          <p:nvPr/>
        </p:nvPicPr>
        <p:blipFill>
          <a:blip r:embed="rId3"/>
          <a:stretch/>
        </p:blipFill>
        <p:spPr>
          <a:xfrm>
            <a:off x="3048120" y="3124080"/>
            <a:ext cx="2666880" cy="2667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AG00189_"/>
          <p:cNvPicPr/>
          <p:nvPr/>
        </p:nvPicPr>
        <p:blipFill>
          <a:blip r:embed="rId4"/>
          <a:stretch/>
        </p:blipFill>
        <p:spPr>
          <a:xfrm>
            <a:off x="5715000" y="2057400"/>
            <a:ext cx="30481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8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9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0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5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66"/>
                </a:solidFill>
                <a:latin typeface="Arial"/>
              </a:rPr>
              <a:t>Весёлая эконом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2743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товаре быть долж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язатель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457200" y="1828800"/>
            <a:ext cx="3733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Журчат ручьи, промокли ноги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сной пора плати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457200" y="1295280"/>
            <a:ext cx="3124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ль трудился круглый год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удет кругленьки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2590920" y="152388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99"/>
                </a:solidFill>
                <a:latin typeface="Arial"/>
              </a:rPr>
              <a:t>доход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2057400" y="10666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99"/>
                </a:solidFill>
                <a:latin typeface="Arial"/>
              </a:rPr>
              <a:t>це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2819520" y="205740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99"/>
                </a:solidFill>
                <a:latin typeface="Arial"/>
              </a:rPr>
              <a:t>налог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465840" y="2362320"/>
            <a:ext cx="300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 ребенка нет без мамы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быта нету без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4"/>
          <p:cNvSpPr/>
          <p:nvPr/>
        </p:nvSpPr>
        <p:spPr>
          <a:xfrm>
            <a:off x="2211480" y="2590200"/>
            <a:ext cx="12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99"/>
                </a:solidFill>
                <a:latin typeface="Arial"/>
              </a:rPr>
              <a:t>рекламы</a:t>
            </a:r>
            <a:r>
              <a:rPr b="1" lang="ru-RU" sz="1800" spc="-1" strike="noStrike">
                <a:solidFill>
                  <a:srgbClr val="ff3399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5"/>
          <p:cNvSpPr/>
          <p:nvPr/>
        </p:nvSpPr>
        <p:spPr>
          <a:xfrm>
            <a:off x="465840" y="2895480"/>
            <a:ext cx="317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колько купили вы колбасы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релкой покажут вам точн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6"/>
          <p:cNvSpPr/>
          <p:nvPr/>
        </p:nvSpPr>
        <p:spPr>
          <a:xfrm>
            <a:off x="3506760" y="312336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99"/>
                </a:solidFill>
                <a:latin typeface="Arial"/>
              </a:rPr>
              <a:t>весы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65120" y="3429000"/>
            <a:ext cx="301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удут целыми, как в танк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береженья ваши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8"/>
          <p:cNvSpPr/>
          <p:nvPr/>
        </p:nvSpPr>
        <p:spPr>
          <a:xfrm>
            <a:off x="2668680" y="3656880"/>
            <a:ext cx="87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99"/>
                </a:solidFill>
                <a:latin typeface="Arial"/>
              </a:rPr>
              <a:t>банк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467280" y="3962520"/>
            <a:ext cx="341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ла у нас пойдут на лад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ы в лучший банк внесли св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0"/>
          <p:cNvSpPr/>
          <p:nvPr/>
        </p:nvSpPr>
        <p:spPr>
          <a:xfrm>
            <a:off x="3733920" y="4190760"/>
            <a:ext cx="89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99"/>
                </a:solidFill>
                <a:latin typeface="Arial"/>
              </a:rPr>
              <a:t>вклад.</a:t>
            </a:r>
            <a:r>
              <a:rPr b="0" lang="ru-RU" sz="16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1"/>
          <p:cNvSpPr/>
          <p:nvPr/>
        </p:nvSpPr>
        <p:spPr>
          <a:xfrm>
            <a:off x="464040" y="4495680"/>
            <a:ext cx="28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обы дом купить я смог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зял кредит, вне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2"/>
          <p:cNvSpPr/>
          <p:nvPr/>
        </p:nvSpPr>
        <p:spPr>
          <a:xfrm>
            <a:off x="2594160" y="4723920"/>
            <a:ext cx="84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99"/>
                </a:solidFill>
                <a:latin typeface="Arial"/>
              </a:rPr>
              <a:t>залог.</a:t>
            </a:r>
            <a:r>
              <a:rPr b="0" lang="ru-RU" sz="16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3"/>
          <p:cNvSpPr/>
          <p:nvPr/>
        </p:nvSpPr>
        <p:spPr>
          <a:xfrm>
            <a:off x="464400" y="5029200"/>
            <a:ext cx="3468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море коварном товаров и це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изнес-корабль вед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4"/>
          <p:cNvSpPr/>
          <p:nvPr/>
        </p:nvSpPr>
        <p:spPr>
          <a:xfrm>
            <a:off x="2895480" y="529560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99"/>
                </a:solidFill>
                <a:latin typeface="Arial"/>
              </a:rPr>
              <a:t>бизнесмен.</a:t>
            </a:r>
            <a:r>
              <a:rPr b="0" lang="ru-RU" sz="16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5"/>
          <p:cNvSpPr/>
          <p:nvPr/>
        </p:nvSpPr>
        <p:spPr>
          <a:xfrm>
            <a:off x="4425840" y="762120"/>
            <a:ext cx="256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юди ходят на базар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м дешевле вес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6"/>
          <p:cNvSpPr/>
          <p:nvPr/>
        </p:nvSpPr>
        <p:spPr>
          <a:xfrm>
            <a:off x="6629400" y="990360"/>
            <a:ext cx="88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99"/>
                </a:solidFill>
                <a:latin typeface="Arial"/>
              </a:rPr>
              <a:t>товар.</a:t>
            </a:r>
            <a:r>
              <a:rPr b="0" lang="ru-RU" sz="16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7"/>
          <p:cNvSpPr/>
          <p:nvPr/>
        </p:nvSpPr>
        <p:spPr>
          <a:xfrm>
            <a:off x="4419720" y="1295280"/>
            <a:ext cx="449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1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банке для всех вас висит прокламация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Деньги в кубышках съеда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8"/>
          <p:cNvSpPr/>
          <p:nvPr/>
        </p:nvSpPr>
        <p:spPr>
          <a:xfrm>
            <a:off x="7547760" y="1523520"/>
            <a:ext cx="133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99"/>
                </a:solidFill>
                <a:latin typeface="Arial"/>
              </a:rPr>
              <a:t>инфляция.</a:t>
            </a:r>
            <a:r>
              <a:rPr b="0" lang="ru-RU" sz="16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9"/>
          <p:cNvSpPr/>
          <p:nvPr/>
        </p:nvSpPr>
        <p:spPr>
          <a:xfrm>
            <a:off x="4424400" y="1828800"/>
            <a:ext cx="239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2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врачу, и акроба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дают за труд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0"/>
          <p:cNvSpPr/>
          <p:nvPr/>
        </p:nvSpPr>
        <p:spPr>
          <a:xfrm>
            <a:off x="6327720" y="2056680"/>
            <a:ext cx="121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99"/>
                </a:solidFill>
                <a:latin typeface="Arial"/>
              </a:rPr>
              <a:t>зарплату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1"/>
          <p:cNvSpPr/>
          <p:nvPr/>
        </p:nvSpPr>
        <p:spPr>
          <a:xfrm>
            <a:off x="4426560" y="2362320"/>
            <a:ext cx="3585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3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бель купили, одежду, посуд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рали для этого в банке м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2"/>
          <p:cNvSpPr/>
          <p:nvPr/>
        </p:nvSpPr>
        <p:spPr>
          <a:xfrm>
            <a:off x="7545600" y="259020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99"/>
                </a:solidFill>
                <a:latin typeface="Arial"/>
              </a:rPr>
              <a:t>ссуду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3"/>
          <p:cNvSpPr/>
          <p:nvPr/>
        </p:nvSpPr>
        <p:spPr>
          <a:xfrm>
            <a:off x="4425840" y="2895480"/>
            <a:ext cx="3410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4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ал владельцем, братцы, я 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т заво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4"/>
          <p:cNvSpPr/>
          <p:nvPr/>
        </p:nvSpPr>
        <p:spPr>
          <a:xfrm>
            <a:off x="5943600" y="31618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99"/>
                </a:solidFill>
                <a:latin typeface="Arial"/>
              </a:rPr>
              <a:t>акция.</a:t>
            </a:r>
            <a:r>
              <a:rPr b="0" lang="ru-RU" sz="16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5"/>
          <p:cNvSpPr/>
          <p:nvPr/>
        </p:nvSpPr>
        <p:spPr>
          <a:xfrm>
            <a:off x="4426920" y="3429000"/>
            <a:ext cx="388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5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обы партнеров не мучили споры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ишут юристы для ни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6"/>
          <p:cNvSpPr/>
          <p:nvPr/>
        </p:nvSpPr>
        <p:spPr>
          <a:xfrm>
            <a:off x="7090200" y="365724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99"/>
                </a:solidFill>
                <a:latin typeface="Arial"/>
              </a:rPr>
              <a:t>договоры.</a:t>
            </a:r>
            <a:r>
              <a:rPr b="0" lang="ru-RU" sz="16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7"/>
          <p:cNvSpPr/>
          <p:nvPr/>
        </p:nvSpPr>
        <p:spPr>
          <a:xfrm>
            <a:off x="4428360" y="3962160"/>
            <a:ext cx="27777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6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чень вкусная витри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овощног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8"/>
          <p:cNvSpPr/>
          <p:nvPr/>
        </p:nvSpPr>
        <p:spPr>
          <a:xfrm>
            <a:off x="5943600" y="4217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99"/>
                </a:solidFill>
                <a:latin typeface="Arial"/>
              </a:rPr>
              <a:t>магазин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9"/>
          <p:cNvSpPr/>
          <p:nvPr/>
        </p:nvSpPr>
        <p:spPr>
          <a:xfrm>
            <a:off x="4430880" y="4495680"/>
            <a:ext cx="441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7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рубль - копейки, на доллары - центы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егут-набегают в банк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0"/>
          <p:cNvSpPr/>
          <p:nvPr/>
        </p:nvSpPr>
        <p:spPr>
          <a:xfrm>
            <a:off x="7089480" y="4723560"/>
            <a:ext cx="130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99"/>
                </a:solidFill>
                <a:latin typeface="Arial"/>
              </a:rPr>
              <a:t>проценты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1"/>
          <p:cNvSpPr/>
          <p:nvPr/>
        </p:nvSpPr>
        <p:spPr>
          <a:xfrm>
            <a:off x="4425840" y="5029200"/>
            <a:ext cx="283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8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носить доходы ста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банке папи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2"/>
          <p:cNvSpPr/>
          <p:nvPr/>
        </p:nvSpPr>
        <p:spPr>
          <a:xfrm>
            <a:off x="6251040" y="5257080"/>
            <a:ext cx="110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99"/>
                </a:solidFill>
                <a:latin typeface="Arial"/>
              </a:rPr>
              <a:t>капита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3"/>
          <p:cNvSpPr/>
          <p:nvPr/>
        </p:nvSpPr>
        <p:spPr>
          <a:xfrm>
            <a:off x="2296440" y="5638680"/>
            <a:ext cx="418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9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уть оплошаешь - так в тот же моме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сь рынок захватит тв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4"/>
          <p:cNvSpPr/>
          <p:nvPr/>
        </p:nvSpPr>
        <p:spPr>
          <a:xfrm>
            <a:off x="5183640" y="586656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99"/>
                </a:solidFill>
                <a:latin typeface="Arial"/>
              </a:rPr>
              <a:t>конкурент.</a:t>
            </a:r>
            <a:r>
              <a:rPr b="0" lang="ru-RU" sz="18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Цель: Компьютерное производство и продажа компьюте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струкц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аботат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рядок действий (карточк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иска профессий выбрать те, которые относятся 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пьютерному бизнесу и необходимы для решения задач бизнес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думайте «бренд» (торговую марку и кредо) своей компа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кансии выбранных вами профессий должны быть заполн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кретными людьми. Профессий должно быть столько, сколь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овек в вашей команд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ните об «информационном поле» – вашему делу нуж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крутка! Разработайте программу рекламной а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щита проектов (реклама и представление выбран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фессий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8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8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8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8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8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8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8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80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8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Порядок действ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авь ц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умай, какими путями её можно достич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оветуйся с опытными людь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ь план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 тех, кто будет выполнять эту работ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бей всю работу на ча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редели обяза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ясни исполнителям, что от них требует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тролируй ход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веди ито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8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8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8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8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8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8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8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8" dur="8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9" dur="8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80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95480" y="228600"/>
            <a:ext cx="32767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990033"/>
                </a:solidFill>
                <a:uFillTx/>
                <a:latin typeface="Arial"/>
              </a:rPr>
              <a:t>СПИСОК ПРОФЕСС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533160"/>
            <a:ext cx="86868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БРОКЕР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оказывает услуги при заключении коммерческих, валютных, кредитных сделок, совершаемых на бирже между покупателем и продавцом; консультирует клиентов, осуществляет расчётно-аналитическую деятельность, покупает место на бирже: вознаграждение формирует за счёт комиссионных в процентах от суммы сдел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ВИТРАЖИСТ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нимается оформлением витрин и выставок; разрабатывает дизайн, оборудует витрины и другие элементы выставочных комплек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КОПИРАЙТЕР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нимается трансформацией рекламных идей, разработкой концепции рекламной компании, созданием эффективных рекламных текстов и слоган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ЛОГИСТИК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уководит отделом закупок, в его ведении склады, транспорт, таможенные проблемы. Формирует общую стратегию поставок товара, обеспечивает наиболее выгодную доставку его до склада, удачно выбирает транспорт, быстро систематизирует и размещает тов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МЕНЕДЖЕР ПО РАБОТЕ С</a:t>
            </a:r>
            <a:r>
              <a:rPr b="0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КЛИЕНТАМ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здаёт наиболее благоприятные условия для клиентов, побуждает его сделать покупку именно в этом магазине, помогает при необходимости поменять купленный ранее товар. Убеждает клиента в выгоде приобретения именно этого това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СЕКРЕТАРЬ-РЕФЕРЕН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должен уметь быстро и грамотно печатать, правильно оформлять документы, фиксировать, систематизировать почту, информацию; должен владеть компьютером и другой оргтехникой, уметь организовать деловую встречу, изучать и анализировать состояние рынка. Важную роль при этом играют знание этикета и имидж секретар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7760" y="304560"/>
            <a:ext cx="32763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990033"/>
                </a:solidFill>
                <a:uFillTx/>
                <a:latin typeface="Arial"/>
              </a:rPr>
              <a:t>СПИСОК ПРОФЕСС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БРЕНД-МЕНЕДЖЕР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работник, цель деятельности которого «раскрутка» торговых марок, их продвижение на рынок, управление формированием представления о них в сознании потребите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МАРКЕТОЛОГ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основная задача этих специалистов - исследование спроса на производимую продукцию и организация её сбыта, то есть поиск потенциальных клиентов, определение тех сегментов рынка, куда эту продукцию целесообразно «продвигать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ПРОГРАММИС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создаёт компьютерные программы, устраняет неполадки в той или иной программе, устанавливает программное обеспечение на различных предприятиях и индивидуаль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ЮРИС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специалист в области прав человека, консультирует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личным правовым вопросам как индивидуально, так и целое предприятие; помогает совершать сделки, помогает правильно составлять догово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ЭКОНОМИС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составляет бюджет предприятия наиболее рационально, планирует расходы и доходы предприя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ПРОДАВЕЦ- КОНСУЛЬТАН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его задача простая и сложная - продать для этого он должен правильно представить вещь покупателю: рассказать о фирме-производителе, отметить конструктивные особенности данной модели, акцентировать внимание на её практичности и так дал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352680" y="274680"/>
            <a:ext cx="23623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Рефлекс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ля меня было интересным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Я узнал (а) для себя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Для меня было легко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Для меня было трудным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. Для меня было бы лучше, если бы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.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«Я в полной мере осознаю, что ни богатство, ни положение в обществе не могут быть устойчивыми, если они не покоятся на правде и справедливости. Поэтому я не свяжу свою совесть сделками, которые не принесут выгоды всем участникам. Я добьюсь своего, объединяясь с другими людьми. Я подавлю в себе ненависть, зависть, подозрительность, чёрствость и цинизм, совершенствуя свою любовь к людям, ибо знаю, что плохое отношение к окружающим никогда не принесёт успеха»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Хилл Н. «Думай и богатей». М., 1997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ED00039_"/>
          <p:cNvPicPr/>
          <p:nvPr/>
        </p:nvPicPr>
        <p:blipFill>
          <a:blip r:embed="rId1"/>
          <a:stretch/>
        </p:blipFill>
        <p:spPr>
          <a:xfrm>
            <a:off x="3352680" y="4191120"/>
            <a:ext cx="2260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6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7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8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76360" y="274680"/>
            <a:ext cx="28954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Итог занят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вой бизнес – это возмож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Если да, то при каких условия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ение работать в коман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анда умеет четко организовать свою рабо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анда конкретно знает свою цель, знает, ради чего и как достичь этой цели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анда умеет ставить задачи по достижению цели и распределять свои возмож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ust</dc:creator>
  <dc:description/>
  <dc:language>en-US</dc:language>
  <cp:lastModifiedBy>Rust</cp:lastModifiedBy>
  <dcterms:modified xsi:type="dcterms:W3CDTF">2011-04-02T16:46:5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