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B11-39E0-4657-8D90-EF07D3A7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8BF-6AF9-4CD4-8B9C-127637F8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F3B-E560-4836-BDF1-A9D07612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3BF-CCFB-4598-8E80-662996AF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67B-C856-416F-826E-70980F73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8A3-A3FE-41F2-9BC9-A599DB4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712-36F0-4631-B7A0-D30B7249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24B-8964-41AD-B492-EE67390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2AD-DB2C-4531-83CF-5DC7C45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5BD-6EAD-483F-BE50-BF8FE92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670-592E-4114-BBAF-74A8D00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5BB-9408-4FCA-9EDA-2F219BD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850-6174-4EC8-97BB-3B751A81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260280"/>
            <a:ext cx="8713800" cy="64818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Arial Black"/>
              </a:rPr>
              <a:t>Мультфильмы Диснея</a:t>
            </a:r>
            <a:endParaRPr b="0" lang="en-US" sz="48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6479640"/>
            <a:ext cx="640872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ik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2560" y="1700280"/>
            <a:ext cx="4897440" cy="460512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ФИОНА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1125360"/>
            <a:ext cx="7273800" cy="5456520"/>
          </a:xfrm>
          <a:prstGeom prst="roundRect">
            <a:avLst>
              <a:gd name="adj" fmla="val 33088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5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ЛЕДНИКОВЫЙ ПЕРИОД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1162080"/>
            <a:ext cx="6985080" cy="5238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29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ЖАСМИН И АЛАДДИН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122480"/>
            <a:ext cx="7202520" cy="5402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75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44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БЭМБИ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981000"/>
            <a:ext cx="7417080" cy="556416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9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В ПОИСКАХ НЕМО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981000"/>
            <a:ext cx="7705800" cy="578016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4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 Black"/>
              </a:rPr>
              <a:t>БЕЛОСНЕЖКА И 7 ГНОМОВ</a:t>
            </a:r>
            <a:endParaRPr b="0" lang="en-US" sz="40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907920"/>
            <a:ext cx="7920000" cy="594072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78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СЛОНЕНОК ДАМБО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014480"/>
            <a:ext cx="7346880" cy="5510160"/>
          </a:xfrm>
          <a:prstGeom prst="roundRect">
            <a:avLst>
              <a:gd name="adj" fmla="val 4975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РАТАТУЙ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440400" cy="515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22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ДЕЛАЙ НОГИ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122480"/>
            <a:ext cx="7202520" cy="540216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9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ЖИЗНЬ ЖУКОВ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12720" y="873000"/>
            <a:ext cx="7920000" cy="5940720"/>
          </a:xfrm>
          <a:prstGeom prst="roundRect">
            <a:avLst>
              <a:gd name="adj" fmla="val 30046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6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МАДАГАСКАР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969840" y="981000"/>
            <a:ext cx="7347240" cy="5510160"/>
          </a:xfrm>
          <a:prstGeom prst="roundRect">
            <a:avLst>
              <a:gd name="adj" fmla="val 24199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9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 Black"/>
              </a:rPr>
              <a:t>КОРПОРАЦИЯ МОНСТРОВ</a:t>
            </a:r>
            <a:endParaRPr b="0" lang="en-US" sz="40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1052640"/>
            <a:ext cx="7201080" cy="5400720"/>
          </a:xfrm>
          <a:prstGeom prst="roundRect">
            <a:avLst>
              <a:gd name="adj" fmla="val 48949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70000">
            <a:off x="5632200" y="1182600"/>
            <a:ext cx="1441440" cy="7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37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ЛЕДИ И БРОДЯГА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143000"/>
            <a:ext cx="6985080" cy="5238720"/>
          </a:xfrm>
          <a:prstGeom prst="roundRect">
            <a:avLst>
              <a:gd name="adj" fmla="val 25644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793200">
            <a:off x="5613120" y="1230480"/>
            <a:ext cx="2228760" cy="1260360"/>
          </a:xfrm>
          <a:prstGeom prst="ellipse">
            <a:avLst/>
          </a:prstGeom>
          <a:solidFill>
            <a:srgbClr val="a322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7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МИККИ МАУС И МИНИ 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041480" y="1122480"/>
            <a:ext cx="7202520" cy="5402160"/>
          </a:xfrm>
          <a:prstGeom prst="roundRect">
            <a:avLst>
              <a:gd name="adj" fmla="val 32824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47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ЛИЛО И СТИЧ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104840"/>
            <a:ext cx="7131240" cy="5348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3080" y="5013360"/>
            <a:ext cx="4699080" cy="113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747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10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ЛЕСНАЯ БРАТВА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212840"/>
            <a:ext cx="6985080" cy="5240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15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НАЖИВКА ДЛЯ АКУЛЫ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02320" cy="487692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34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МУЛАН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197000"/>
            <a:ext cx="6985080" cy="5238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26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НЕ БЕЙ КОПЫТОМ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044720" y="1125360"/>
            <a:ext cx="7272360" cy="5454720"/>
          </a:xfrm>
          <a:prstGeom prst="roundRect">
            <a:avLst>
              <a:gd name="adj" fmla="val 39134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83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ПИНОККИО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197000"/>
            <a:ext cx="7272360" cy="545472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547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ОЛИВЕР И КОМПАНИЯ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969840" y="1087560"/>
            <a:ext cx="7347240" cy="551016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36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ЗОЛУШКА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1125360"/>
            <a:ext cx="7128000" cy="534672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1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ТАЧКИ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2125" t="31502" r="-161" b="14306"/>
          <a:stretch/>
        </p:blipFill>
        <p:spPr>
          <a:xfrm>
            <a:off x="4284720" y="3645000"/>
            <a:ext cx="4392720" cy="26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7360" y="1558800"/>
            <a:ext cx="411336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356000" y="1125360"/>
            <a:ext cx="2881440" cy="266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4872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7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СЕЗОН ОХОТЫ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1125360"/>
            <a:ext cx="7129440" cy="5346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АРТУР И МИНИПУТЫ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15207" r="26741" b="-1694"/>
          <a:stretch/>
        </p:blipFill>
        <p:spPr>
          <a:xfrm>
            <a:off x="1692360" y="1195560"/>
            <a:ext cx="5940360" cy="5259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25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ПИТЕР ПЭН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338120"/>
            <a:ext cx="6915240" cy="518652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60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СПЯЩАЯ КРАСАВИЦА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041480" y="1054080"/>
            <a:ext cx="7202520" cy="5399280"/>
          </a:xfrm>
          <a:prstGeom prst="roundRect">
            <a:avLst>
              <a:gd name="adj" fmla="val 2718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47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ПОКАХОНТАС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3320" cy="5059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72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1125360"/>
            <a:ext cx="7131240" cy="5348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60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101 </a:t>
            </a:r>
            <a:r>
              <a:rPr b="0" lang="ru-RU" sz="4400" spc="-1" strike="noStrike">
                <a:solidFill>
                  <a:srgbClr val="0099ff"/>
                </a:solidFill>
                <a:latin typeface="Arial Black"/>
              </a:rPr>
              <a:t>ДОЛМАТИНЕЦ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1197000"/>
            <a:ext cx="7128000" cy="5346720"/>
          </a:xfrm>
          <a:prstGeom prst="roundRect">
            <a:avLst>
              <a:gd name="adj" fmla="val 4813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6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ФЕЯ ДИНЬ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052640"/>
            <a:ext cx="7131240" cy="534816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9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ВИННИ ПУХ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035000"/>
            <a:ext cx="7200720" cy="540072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1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ТИГРУЛЯ И ХРЮНЯ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176480"/>
            <a:ext cx="7129440" cy="5348160"/>
          </a:xfrm>
          <a:prstGeom prst="roundRect">
            <a:avLst>
              <a:gd name="adj" fmla="val 43306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93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КОРОЛЬ ЛЕВ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998640"/>
            <a:ext cx="7201080" cy="5402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6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ШРЕК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052640"/>
            <a:ext cx="6986880" cy="5240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0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5:10:02Z</dcterms:created>
  <dc:creator>viki</dc:creator>
  <dc:description/>
  <dc:language>en-US</dc:language>
  <cp:lastModifiedBy>viki</cp:lastModifiedBy>
  <dcterms:modified xsi:type="dcterms:W3CDTF">2007-09-14T16:58:39Z</dcterms:modified>
  <cp:revision>8</cp:revision>
  <dc:subject/>
  <dc:title>Мультфильмы Диснея</dc:title>
</cp:coreProperties>
</file>